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  <p:sldId id="320" r:id="rId78"/>
    <p:sldId id="321" r:id="rId79"/>
    <p:sldId id="322" r:id="rId80"/>
    <p:sldId id="323" r:id="rId81"/>
    <p:sldId id="324" r:id="rId82"/>
    <p:sldId id="325" r:id="rId83"/>
    <p:sldId id="326" r:id="rId84"/>
    <p:sldId id="327" r:id="rId85"/>
    <p:sldId id="328" r:id="rId86"/>
    <p:sldId id="329" r:id="rId87"/>
    <p:sldId id="330" r:id="rId88"/>
    <p:sldId id="331" r:id="rId89"/>
    <p:sldId id="332" r:id="rId90"/>
    <p:sldId id="333" r:id="rId91"/>
    <p:sldId id="334" r:id="rId92"/>
    <p:sldId id="335" r:id="rId93"/>
    <p:sldId id="336" r:id="rId94"/>
    <p:sldId id="337" r:id="rId95"/>
    <p:sldId id="338" r:id="rId96"/>
    <p:sldId id="339" r:id="rId97"/>
    <p:sldId id="340" r:id="rId98"/>
    <p:sldId id="341" r:id="rId99"/>
    <p:sldId id="342" r:id="rId100"/>
    <p:sldId id="343" r:id="rId101"/>
    <p:sldId id="344" r:id="rId102"/>
    <p:sldId id="345" r:id="rId103"/>
    <p:sldId id="346" r:id="rId104"/>
    <p:sldId id="347" r:id="rId105"/>
    <p:sldId id="348" r:id="rId106"/>
    <p:sldId id="349" r:id="rId107"/>
    <p:sldId id="350" r:id="rId108"/>
    <p:sldId id="351" r:id="rId109"/>
    <p:sldId id="352" r:id="rId110"/>
    <p:sldId id="353" r:id="rId111"/>
    <p:sldId id="354" r:id="rId112"/>
    <p:sldId id="355" r:id="rId113"/>
    <p:sldId id="356" r:id="rId114"/>
    <p:sldId id="357" r:id="rId115"/>
    <p:sldId id="358" r:id="rId116"/>
    <p:sldId id="359" r:id="rId117"/>
    <p:sldId id="360" r:id="rId118"/>
    <p:sldId id="361" r:id="rId119"/>
    <p:sldId id="362" r:id="rId120"/>
    <p:sldId id="363" r:id="rId121"/>
    <p:sldId id="364" r:id="rId122"/>
    <p:sldId id="365" r:id="rId123"/>
    <p:sldId id="366" r:id="rId124"/>
    <p:sldId id="367" r:id="rId125"/>
    <p:sldId id="368" r:id="rId126"/>
    <p:sldId id="369" r:id="rId127"/>
    <p:sldId id="370" r:id="rId128"/>
    <p:sldId id="371" r:id="rId129"/>
    <p:sldId id="372" r:id="rId130"/>
    <p:sldId id="373" r:id="rId131"/>
    <p:sldId id="374" r:id="rId132"/>
    <p:sldId id="375" r:id="rId133"/>
    <p:sldId id="376" r:id="rId134"/>
    <p:sldId id="377" r:id="rId135"/>
    <p:sldId id="378" r:id="rId136"/>
    <p:sldId id="379" r:id="rId137"/>
    <p:sldId id="380" r:id="rId138"/>
    <p:sldId id="381" r:id="rId139"/>
    <p:sldId id="382" r:id="rId140"/>
    <p:sldId id="383" r:id="rId141"/>
    <p:sldId id="384" r:id="rId142"/>
    <p:sldId id="385" r:id="rId143"/>
    <p:sldId id="386" r:id="rId144"/>
    <p:sldId id="387" r:id="rId14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slide" Target="slides/slide65.xml"/><Relationship Id="rId79" Type="http://schemas.openxmlformats.org/officeDocument/2006/relationships/slide" Target="slides/slide66.xml"/><Relationship Id="rId80" Type="http://schemas.openxmlformats.org/officeDocument/2006/relationships/slide" Target="slides/slide67.xml"/><Relationship Id="rId81" Type="http://schemas.openxmlformats.org/officeDocument/2006/relationships/slide" Target="slides/slide68.xml"/><Relationship Id="rId82" Type="http://schemas.openxmlformats.org/officeDocument/2006/relationships/slide" Target="slides/slide69.xml"/><Relationship Id="rId83" Type="http://schemas.openxmlformats.org/officeDocument/2006/relationships/slide" Target="slides/slide70.xml"/><Relationship Id="rId84" Type="http://schemas.openxmlformats.org/officeDocument/2006/relationships/slide" Target="slides/slide71.xml"/><Relationship Id="rId85" Type="http://schemas.openxmlformats.org/officeDocument/2006/relationships/slide" Target="slides/slide72.xml"/><Relationship Id="rId86" Type="http://schemas.openxmlformats.org/officeDocument/2006/relationships/slide" Target="slides/slide73.xml"/><Relationship Id="rId87" Type="http://schemas.openxmlformats.org/officeDocument/2006/relationships/slide" Target="slides/slide74.xml"/><Relationship Id="rId88" Type="http://schemas.openxmlformats.org/officeDocument/2006/relationships/slide" Target="slides/slide75.xml"/><Relationship Id="rId89" Type="http://schemas.openxmlformats.org/officeDocument/2006/relationships/slide" Target="slides/slide76.xml"/><Relationship Id="rId90" Type="http://schemas.openxmlformats.org/officeDocument/2006/relationships/slide" Target="slides/slide77.xml"/><Relationship Id="rId91" Type="http://schemas.openxmlformats.org/officeDocument/2006/relationships/slide" Target="slides/slide78.xml"/><Relationship Id="rId92" Type="http://schemas.openxmlformats.org/officeDocument/2006/relationships/slide" Target="slides/slide79.xml"/><Relationship Id="rId93" Type="http://schemas.openxmlformats.org/officeDocument/2006/relationships/slide" Target="slides/slide80.xml"/><Relationship Id="rId94" Type="http://schemas.openxmlformats.org/officeDocument/2006/relationships/slide" Target="slides/slide81.xml"/><Relationship Id="rId95" Type="http://schemas.openxmlformats.org/officeDocument/2006/relationships/slide" Target="slides/slide82.xml"/><Relationship Id="rId96" Type="http://schemas.openxmlformats.org/officeDocument/2006/relationships/slide" Target="slides/slide83.xml"/><Relationship Id="rId97" Type="http://schemas.openxmlformats.org/officeDocument/2006/relationships/slide" Target="slides/slide84.xml"/><Relationship Id="rId98" Type="http://schemas.openxmlformats.org/officeDocument/2006/relationships/slide" Target="slides/slide85.xml"/><Relationship Id="rId99" Type="http://schemas.openxmlformats.org/officeDocument/2006/relationships/slide" Target="slides/slide86.xml"/><Relationship Id="rId100" Type="http://schemas.openxmlformats.org/officeDocument/2006/relationships/slide" Target="slides/slide87.xml"/><Relationship Id="rId101" Type="http://schemas.openxmlformats.org/officeDocument/2006/relationships/slide" Target="slides/slide88.xml"/><Relationship Id="rId102" Type="http://schemas.openxmlformats.org/officeDocument/2006/relationships/slide" Target="slides/slide89.xml"/><Relationship Id="rId103" Type="http://schemas.openxmlformats.org/officeDocument/2006/relationships/slide" Target="slides/slide90.xml"/><Relationship Id="rId104" Type="http://schemas.openxmlformats.org/officeDocument/2006/relationships/slide" Target="slides/slide91.xml"/><Relationship Id="rId105" Type="http://schemas.openxmlformats.org/officeDocument/2006/relationships/slide" Target="slides/slide92.xml"/><Relationship Id="rId106" Type="http://schemas.openxmlformats.org/officeDocument/2006/relationships/slide" Target="slides/slide93.xml"/><Relationship Id="rId107" Type="http://schemas.openxmlformats.org/officeDocument/2006/relationships/slide" Target="slides/slide94.xml"/><Relationship Id="rId108" Type="http://schemas.openxmlformats.org/officeDocument/2006/relationships/slide" Target="slides/slide95.xml"/><Relationship Id="rId109" Type="http://schemas.openxmlformats.org/officeDocument/2006/relationships/slide" Target="slides/slide96.xml"/><Relationship Id="rId110" Type="http://schemas.openxmlformats.org/officeDocument/2006/relationships/slide" Target="slides/slide97.xml"/><Relationship Id="rId111" Type="http://schemas.openxmlformats.org/officeDocument/2006/relationships/slide" Target="slides/slide98.xml"/><Relationship Id="rId112" Type="http://schemas.openxmlformats.org/officeDocument/2006/relationships/slide" Target="slides/slide99.xml"/><Relationship Id="rId113" Type="http://schemas.openxmlformats.org/officeDocument/2006/relationships/slide" Target="slides/slide100.xml"/><Relationship Id="rId114" Type="http://schemas.openxmlformats.org/officeDocument/2006/relationships/slide" Target="slides/slide101.xml"/><Relationship Id="rId115" Type="http://schemas.openxmlformats.org/officeDocument/2006/relationships/slide" Target="slides/slide102.xml"/><Relationship Id="rId116" Type="http://schemas.openxmlformats.org/officeDocument/2006/relationships/slide" Target="slides/slide103.xml"/><Relationship Id="rId117" Type="http://schemas.openxmlformats.org/officeDocument/2006/relationships/slide" Target="slides/slide104.xml"/><Relationship Id="rId118" Type="http://schemas.openxmlformats.org/officeDocument/2006/relationships/slide" Target="slides/slide105.xml"/><Relationship Id="rId119" Type="http://schemas.openxmlformats.org/officeDocument/2006/relationships/slide" Target="slides/slide106.xml"/><Relationship Id="rId120" Type="http://schemas.openxmlformats.org/officeDocument/2006/relationships/slide" Target="slides/slide107.xml"/><Relationship Id="rId121" Type="http://schemas.openxmlformats.org/officeDocument/2006/relationships/slide" Target="slides/slide108.xml"/><Relationship Id="rId122" Type="http://schemas.openxmlformats.org/officeDocument/2006/relationships/slide" Target="slides/slide109.xml"/><Relationship Id="rId123" Type="http://schemas.openxmlformats.org/officeDocument/2006/relationships/slide" Target="slides/slide110.xml"/><Relationship Id="rId124" Type="http://schemas.openxmlformats.org/officeDocument/2006/relationships/slide" Target="slides/slide111.xml"/><Relationship Id="rId125" Type="http://schemas.openxmlformats.org/officeDocument/2006/relationships/slide" Target="slides/slide112.xml"/><Relationship Id="rId126" Type="http://schemas.openxmlformats.org/officeDocument/2006/relationships/slide" Target="slides/slide113.xml"/><Relationship Id="rId127" Type="http://schemas.openxmlformats.org/officeDocument/2006/relationships/slide" Target="slides/slide114.xml"/><Relationship Id="rId128" Type="http://schemas.openxmlformats.org/officeDocument/2006/relationships/slide" Target="slides/slide115.xml"/><Relationship Id="rId129" Type="http://schemas.openxmlformats.org/officeDocument/2006/relationships/slide" Target="slides/slide116.xml"/><Relationship Id="rId130" Type="http://schemas.openxmlformats.org/officeDocument/2006/relationships/slide" Target="slides/slide117.xml"/><Relationship Id="rId131" Type="http://schemas.openxmlformats.org/officeDocument/2006/relationships/slide" Target="slides/slide118.xml"/><Relationship Id="rId132" Type="http://schemas.openxmlformats.org/officeDocument/2006/relationships/slide" Target="slides/slide119.xml"/><Relationship Id="rId133" Type="http://schemas.openxmlformats.org/officeDocument/2006/relationships/slide" Target="slides/slide120.xml"/><Relationship Id="rId134" Type="http://schemas.openxmlformats.org/officeDocument/2006/relationships/slide" Target="slides/slide121.xml"/><Relationship Id="rId135" Type="http://schemas.openxmlformats.org/officeDocument/2006/relationships/slide" Target="slides/slide122.xml"/><Relationship Id="rId136" Type="http://schemas.openxmlformats.org/officeDocument/2006/relationships/slide" Target="slides/slide123.xml"/><Relationship Id="rId137" Type="http://schemas.openxmlformats.org/officeDocument/2006/relationships/slide" Target="slides/slide124.xml"/><Relationship Id="rId138" Type="http://schemas.openxmlformats.org/officeDocument/2006/relationships/slide" Target="slides/slide125.xml"/><Relationship Id="rId139" Type="http://schemas.openxmlformats.org/officeDocument/2006/relationships/slide" Target="slides/slide126.xml"/><Relationship Id="rId140" Type="http://schemas.openxmlformats.org/officeDocument/2006/relationships/slide" Target="slides/slide127.xml"/><Relationship Id="rId141" Type="http://schemas.openxmlformats.org/officeDocument/2006/relationships/slide" Target="slides/slide128.xml"/><Relationship Id="rId142" Type="http://schemas.openxmlformats.org/officeDocument/2006/relationships/slide" Target="slides/slide129.xml"/><Relationship Id="rId143" Type="http://schemas.openxmlformats.org/officeDocument/2006/relationships/slide" Target="slides/slide130.xml"/><Relationship Id="rId144" Type="http://schemas.openxmlformats.org/officeDocument/2006/relationships/slide" Target="slides/slide131.xml"/><Relationship Id="rId145" Type="http://schemas.openxmlformats.org/officeDocument/2006/relationships/slide" Target="slides/slide132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CCFC-35B1-4ED1-B400-AF831273C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D514-DCD3-4A2B-A566-FB6B5711D68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DAE82-C4F5-4E37-BCB7-A298C1B40A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00741-8A55-478C-9382-8109359DAAF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73139-3917-41E5-80E2-F8C0324C5D8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E00BD-1FC1-4A21-8AA3-1B2E11A6C6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F3587-F3A1-406E-B0DB-FEA1E1434DB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D33B0-1CCF-4AFF-9DC5-241EA634F91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198F-085B-4002-AFF2-DEE5107707F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795C4-A18B-442F-96B8-6FE9EE5B8C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3080-7E45-4586-B4BB-2B4C26C75C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244B3-8499-4900-8028-6D11187CC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7BE66-D8E6-4B90-BC07-C8DEA92374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5D34C-0E8D-4D22-9C60-8C97A862A18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770C46-2684-488D-9EBD-637F222D14D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D6561-C57B-4D2B-8607-B48A8291DF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31748-CDEA-4E8D-9FBB-18EE46E5B8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C7FB8-B093-4080-BD8F-9016513FBD1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1A6358-9C5C-494A-B0D4-90C860A59A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DD0C76-48BB-4021-A381-094096F85D2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0F376-450E-4A37-84AC-DC278B7983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618EF-81B4-45A1-BD22-7106F4268AB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396B5-0D8C-405E-890E-2BB8AC002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AD11-1D40-4773-A3E1-EB0984B9D5C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9922C-B344-4BBB-BE3D-1AB2B74B78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7ED7DF-9E09-49C3-BC13-0B4BBB8FCC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E3713F-3F7D-492A-852A-2AA3CE5C08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F69D18-5AFD-421F-9E91-45B5CEB16E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1F0C40-A133-44D6-8C7B-B87523C5B1A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1273AC-4FAB-4F3D-91E0-E58BB790AA9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B5D971-6D95-4A96-BF16-06953009C55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931172-926F-41B9-9651-35178D825BD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85E810-3C33-4C28-85EC-BE0EB88A8C4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A87916-0521-4BEE-997E-F96C139E7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287A5-DD4A-48FF-A929-FC24E91E761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BF6946-A45D-413E-BFD1-681F05A03C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3C3987-46CE-47DA-B642-99603052D5C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C67B12-9A20-40D6-B0EB-FEAF940C91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414B64-622E-4D6E-ACF5-1C264206C8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9836-3288-4217-B6B6-20048D13C69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E2DB1-4F99-408C-A84E-BD289F715E2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580B4-B90E-400C-AF42-CA5F43CECFD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A857-9377-42CE-AD1E-9B72E73EFB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7684-7DAE-4360-9E4F-CC7F4D2048D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08D6-9101-46CC-AF5C-F93352A32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3CC9-0D44-4D6A-A90C-495631E3D0F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721B9-5070-47CF-8830-51BB2366C7E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1852-585D-43C8-BE5F-94E9B24DF2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2FAF-394F-499D-BACD-0EC401148C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5717B-A56A-482F-9F00-1EDC1A8C39B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254D7-8CAD-43CD-AA64-D0B4C7A82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8D0CA-1EDD-44F3-B1BD-B38D2AC746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0BBA3-AD0C-49BC-A3F5-B6C39C4657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E7D7C-786F-4FBF-9C97-B83EC0AC5C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FD708-A81E-4A2A-80A3-BA89F50E1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63654-8A09-4C75-8D6C-9272969B0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BCB6-D1FB-4639-B8E8-287E9FC89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C834C-46DF-4733-BF7D-D4B4134CF6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CD0F7-B5A4-4CCC-A60C-94EE5A54BC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A81E4-3D83-429A-A05F-703E7B4A2F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41963-298E-4119-BA5B-64F2B0EA3C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4CC9-EC64-4EC5-9DC8-25C83BB64D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276C-1628-41DC-93BB-2E8A7E0BAB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763B-86D4-408C-AF2B-35B7720A3F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930F-7CF8-4294-AB1E-AAEFE7F725E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22D-156A-41BA-ABF2-34DD0493BD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69A-1CD5-4C2D-AB3A-26A91A388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1601-8CC6-462F-8D66-4860AC30D5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CB93-E83C-48CD-983A-27213A06E2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B87A-6AF3-4FB0-B75A-482CD734B2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757-3CAF-46EB-9077-FAAE1FE3E8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C21-11B1-446C-A019-7A6264DE7E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BD94-8E08-4371-B614-90ACBA5814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E9FF-3157-4406-A0A1-05B20102D1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FE83-E0A2-4AAE-969B-6BD1031901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CC91B1-2CB3-4C73-AEC4-110DEDD4CC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26A0-2247-449E-A99F-A5260D01A8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1F534-965E-48EE-A41D-8B280B15D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A6CA-C459-4678-BA24-354EF5BD3B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9EF16-873C-40E9-9FA9-B23AE0CC0B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9E0FB-CD7E-4848-A240-22D7B25C82E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5CCA8-3D3A-404E-A767-65BA03ADF6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C9727-9D39-4745-974B-31B220ACC17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8D0E0-2E8E-4FEA-85EB-3D694FBBBC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8DCBC-0E78-49CE-924E-261103E148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141C1-326E-4344-A795-E65F2CAC59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5C182-FD13-4B9D-9CBC-1978D1D554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B2860-BCA8-46B0-8D9D-55EC0E7E2A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EA5AA-727E-4FDD-8A25-28D98FA5A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84920-D102-482B-B4FB-A028A00E57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2394D9-7C67-464A-B529-5326AF0E89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4FA9E-DBD9-4F51-8F70-1B2D5485BB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FF2AB-F36B-4E10-B7A4-44AF758D26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66883-CA65-45B4-9AE7-74B743C866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A53DC-3E8E-4B52-8009-EB15E8458C6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53FF4-67F5-413A-80B7-C48B9C17BC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2CFA7-CE42-4664-9FB6-AF135E346D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44639-A847-41B8-8018-53EDCE82E7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1C2A3A-7334-4AB1-9DEE-7EF370DBCE2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0B93A-1B7D-497B-80AC-C30625DB8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E8B1-4D95-419D-B9E2-2C83F10D6B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7763A-2639-4A4E-A9E6-D35991E2627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E5B77-7F45-4E62-AC7D-20BACE4FFD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A0CD5-456C-44D4-A8CE-99EEFEB1EF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29E0-DC22-4938-9CE4-F48CEC4E72B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CCA4-C3AE-4B70-A9D7-02FE54F77E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A901E-EC84-45DE-BBC2-46F06B8462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D75B3-BFBF-47AF-83B7-05BD7C532DF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151AC-DBF2-48BF-8268-3C1593EE79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AF0C-CB5A-4392-BF49-EA01371FFA8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9719-8495-479D-BEB4-D0780878C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06140-FFEC-478D-90CE-2E809021AF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AF5D8-6F40-4E85-A9C7-5EE8127833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CA50-1985-4280-9D46-05FFD5D9DA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4292-F129-465E-A886-B6B3DD9CF0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FF81E-0161-4C17-9EAD-A13943CA31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F5F61-D86D-446E-8B54-5404B653D9A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03B14C-DE8E-4540-8685-A6C8B4C0C5C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A7F3F-D7B4-4EB5-9C20-2B38745793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6692F-4AAF-4C50-A91D-0516C292DFE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57A95-0F57-42B0-BD1C-37B8DA6B1B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05F5A-3C05-4B52-A8D1-9A7980683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C73F-D388-46E9-B5CD-19E970C0E6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97026-C8D3-40AF-A1C3-0112156815E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AC349-5006-4F8D-A28F-6FACCBDA2E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4F8E5-DFCD-4DE6-A109-5B78204F38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E45AA6-5A0D-4BB0-ADFC-5285708DB0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88B33-8EEA-4AB2-B427-6E61C6A246B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9902D-B7F4-4CFE-870F-99D228458C2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3CD8E-56C1-46E2-8C7F-6B464F08A64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8DEE74-673F-478C-8813-B97F279FCF6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E4AD9B-AE8C-444D-A751-80E5949877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CE27F-5EEE-4BDC-A9A1-5A7FA5DB8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3D02-2D52-42EF-874B-2A2373AFEE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C0BB00-8E1C-4A58-928D-47359598CBB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84151E-6C90-4CEC-AAA9-780CE97EE21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842C38-DBCB-41DF-AD46-9C5EF2E05CD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B6332-9B9F-49F8-A6B2-8A3B5A78CC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EB8895-D717-4C50-8E41-64614D7EA13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373CBD-B64C-43FE-9246-5DEFB238F57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FD8C89-F8C7-4308-908C-527043B967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F1FD2-AEBE-4E25-92B7-3C9DC7FD01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1E49-9F2A-46AA-B26E-26FE1B8435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BC6E7-493D-4B79-8C48-4D69C4FED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957D-2B1C-4AF1-8942-78185DCC4F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8D4B-3258-4DD3-82E8-048F69253D1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6255-01D4-4C95-91D9-9585AED9BD9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2437-4523-49B5-BEDE-CD3AFC9D44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1983-8A8D-492F-870A-B537E020089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F39-2893-41FA-A6EC-6929EA3359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88B2-88A4-4E8E-94C4-112AE6D47B0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533-CEB2-422E-8873-41AD54C9DD8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6382-7A2C-432B-940C-D69F75CF3A5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390A-40C7-4E16-88F9-4C509F2D10C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957-10D8-43F5-BC07-ACF1D36FD6E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419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  <a:ea typeface="新細明體"/>
              </a:rPr>
              <a:t>Chapter 17: Advanced Uses of Poi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790-9F1E-4C05-AD7C-5CEE2FBFF0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E198-A025-409D-BEF7-0A109D7E2AC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hapter 17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Advanced Uses of Poin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memory for a string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ach character requires one byte of memory; adding 1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ves room for the null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prefer to ca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, although the cast is not requir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(char *) malloc(n +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D7C5-2FB4-4BAB-B88B-EDB9BBDE9A2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that its parameters have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we can’t access the members of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thr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olve the proble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ssign its parameter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o variables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02A3-187B-4B3A-A864-1A209A7988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into ascending order by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p1 =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struct part *q1 =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1-&gt;number &lt;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p1-&gt;number == q1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D4BB-4ED7-4BC4-9444-44C471A191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C programmers would write the function more concise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(struct part *) p)-&gt;number 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 if (((struct part *) p)-&gt;number 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E963-CBAD-490F-9A1D-DFA1B044410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even shorter by remov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((struct part *) p)-&gt;numbe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1594-D577-4586-B165-7065D2D4994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can be used to sor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by part name instead of part nu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ompare_parts(const void *p, const void *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trcmp(((struct part *) p)-&gt;n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((struct part *) q)-&gt;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33E3-F916-47FA-B420-DC0DE62982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function pointers are often used as arguments, that’s not all they’re good f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treats pointers to functions just lik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y can be stored in variables or used as elements of an array or as members of a structure or un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’s even possible for functions to return function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DFB3-D63E-4CB1-AC11-4F1D044C0C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variable that can store a pointer to a function with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arameter and a return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pf)(int);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uch a function, we can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 =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 writing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f)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f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0948-4766-47EB-B626-822A11CEE5A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rray whose elements are function poin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(*file_cmd[])(void) = {new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open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los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s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ave_all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_cmd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_cm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B162-722A-4F44-B7FC-3C0753975A9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ther Uses of Function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function stored in pos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ile_cmd[n])()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le_cmd[n]();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get a similar effect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, but using an array of function pointers provides mor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5F0-5834-43D3-83C9-2593E59416B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prints tables showing the values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gram is built around a function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, when passed a function poin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prints a table showing the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s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n argu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yp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e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the smallest integer that’s greater than or equa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3A8A-1C5D-4E42-B1EA-91FC0876B3A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allocat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cleared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an uninitialized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+ 1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7CA-331B-423F-991A-85E1FD391D0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7" descr=""/>
          <p:cNvPicPr/>
          <p:nvPr/>
        </p:nvPicPr>
        <p:blipFill>
          <a:blip r:embed="rId1"/>
          <a:stretch/>
        </p:blipFill>
        <p:spPr>
          <a:xfrm>
            <a:off x="2411280" y="2986200"/>
            <a:ext cx="424368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ession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iti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final value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nter increment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urier New"/>
                <a:ea typeface="新細明體"/>
              </a:rPr>
              <a:t>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cos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1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995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980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955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9210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8775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BA5-4379-4884-848A-4E09FFAFA4D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Tabulating the Trigonometric Functions</a:t>
            </a:r>
            <a:endParaRPr b="0" lang="en-US" sz="29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si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0998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1986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2955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3894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4794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x        tan(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-------    ------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00000    0.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10000    0.1003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20000    0.2027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30000    0.309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40000    0.4227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0.50000    0.546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D165-586E-420D-A57C-EF403B8EAD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Tabulates values of trigonometric function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final, increment, initi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iti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iti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final valu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increment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lf", &amp;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DD39-7F1C-4922-9D76-ABBF12F9E6D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cos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cos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si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si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      x        tan(x)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\n   -------    -----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abulate(tan, initial, final, incremen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tabulate(double (*f)(double), double firs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last, double in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last - first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first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10.5f %10.5f\n", x, (*f)(x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8907-2B1F-488B-9C06-76CC1062D47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1062000" y="1339920"/>
            <a:ext cx="1484280" cy="14587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" descr=""/>
          <p:cNvPicPr/>
          <p:nvPr/>
        </p:nvPicPr>
        <p:blipFill>
          <a:blip r:embed="rId2"/>
          <a:stretch/>
        </p:blipFill>
        <p:spPr>
          <a:xfrm>
            <a:off x="927000" y="2817720"/>
            <a:ext cx="7661520" cy="3402000"/>
          </a:xfrm>
          <a:prstGeom prst="rect">
            <a:avLst/>
          </a:prstGeom>
          <a:ln w="0">
            <a:noFill/>
          </a:ln>
        </p:spPr>
      </p:pic>
      <p:sp>
        <p:nvSpPr>
          <p:cNvPr id="968" name="投影片編號版面配置區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DCAA-9CF9-4791-A834-2AFF0CE8846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6346800" cy="3888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" descr=""/>
          <p:cNvPicPr/>
          <p:nvPr/>
        </p:nvPicPr>
        <p:blipFill>
          <a:blip r:embed="rId2"/>
          <a:stretch/>
        </p:blipFill>
        <p:spPr>
          <a:xfrm>
            <a:off x="971640" y="4653000"/>
            <a:ext cx="2543040" cy="1752480"/>
          </a:xfrm>
          <a:prstGeom prst="rect">
            <a:avLst/>
          </a:prstGeom>
          <a:ln w="0">
            <a:noFill/>
          </a:ln>
        </p:spPr>
      </p:pic>
      <p:sp>
        <p:nvSpPr>
          <p:cNvPr id="971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D312-7D88-4AE0-A1E1-681D7EE28DD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05600" cy="18003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4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7886520" cy="1352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5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7416720" cy="1657440"/>
          </a:xfrm>
          <a:prstGeom prst="rect">
            <a:avLst/>
          </a:prstGeom>
          <a:ln w="0">
            <a:noFill/>
          </a:ln>
        </p:spPr>
      </p:pic>
      <p:sp>
        <p:nvSpPr>
          <p:cNvPr id="975" name="投影片編號版面配置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D88-1021-40D7-87FB-6935FF30CCE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Arrays of Pointers to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pic>
        <p:nvPicPr>
          <p:cNvPr id="977" name="Picture 2" descr=""/>
          <p:cNvPicPr/>
          <p:nvPr/>
        </p:nvPicPr>
        <p:blipFill>
          <a:blip r:embed="rId1"/>
          <a:stretch/>
        </p:blipFill>
        <p:spPr>
          <a:xfrm>
            <a:off x="741240" y="1268280"/>
            <a:ext cx="7661520" cy="4857840"/>
          </a:xfrm>
          <a:prstGeom prst="rect">
            <a:avLst/>
          </a:prstGeom>
          <a:ln w="0">
            <a:noFill/>
          </a:ln>
        </p:spPr>
      </p:pic>
      <p:sp>
        <p:nvSpPr>
          <p:cNvPr id="978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8FD2-0714-447A-9ABF-4735F91A8A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647640" y="81000"/>
            <a:ext cx="7848720" cy="6696000"/>
          </a:xfrm>
          <a:prstGeom prst="rect">
            <a:avLst/>
          </a:prstGeom>
          <a:ln w="0">
            <a:noFill/>
          </a:ln>
        </p:spPr>
      </p:pic>
      <p:sp>
        <p:nvSpPr>
          <p:cNvPr id="980" name="投影片編號版面配置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4F7-B85C-41EC-814B-C21594C44A0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540920" cy="4321080"/>
          </a:xfrm>
          <a:prstGeom prst="rect">
            <a:avLst/>
          </a:prstGeom>
          <a:ln w="0">
            <a:noFill/>
          </a:ln>
        </p:spPr>
      </p:pic>
      <p:sp>
        <p:nvSpPr>
          <p:cNvPr id="982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CBD-7EBE-4769-87E9-8AC5439364F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one way to initialize this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four characters in the array will now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D39E-B647-44E6-B7FA-043D28CDA3B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6" descr=""/>
          <p:cNvPicPr/>
          <p:nvPr/>
        </p:nvPicPr>
        <p:blipFill>
          <a:blip r:embed="rId1"/>
          <a:stretch/>
        </p:blipFill>
        <p:spPr>
          <a:xfrm>
            <a:off x="2424240" y="3538440"/>
            <a:ext cx="42307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329440" cy="3503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2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6769080" cy="2643120"/>
          </a:xfrm>
          <a:prstGeom prst="rect">
            <a:avLst/>
          </a:prstGeom>
          <a:ln w="0">
            <a:noFill/>
          </a:ln>
        </p:spPr>
      </p:pic>
      <p:sp>
        <p:nvSpPr>
          <p:cNvPr id="985" name="投影片編號版面配置區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0A7F-BBD2-4D3C-9D1F-4C1771B650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99, the keywor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ay appear in the declaration of a poin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stricted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nt is that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an object that is later modified, then that object is not accessed in any way other than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aving more than one way to access an object is often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a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23A2-C1A2-427C-B7A6-A14E8DBFCCD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following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 restrict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rmally it would be legal to cop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n modify the integer thr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us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undefin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behavi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a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restricted pointer, the effect of executing the stat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undef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9B5F-C96D-4281-92EB-E69506093E6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illustra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consid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copies bytes from one object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to another (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 restrict s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st void * restrict 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bo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objects to which they point shouldn’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2943-75DF-424B-A528-7EF6CD82EE1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contras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appear in the 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similar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ut is guaranteed to work even if the source and destination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shift the elements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a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(&amp;a[0], &amp;a[1], 99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BC64-78AE-4371-9EE3-06C613CCC20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or to C99, there was no way to document the difference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m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rototypes for the two functions were nearly ident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cpy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emmove(void *s1, const void *s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 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 the C99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cp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prototype is a warning tha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bjects should not overl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6983-D486-4184-BBC9-2425D8DC2B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stricted Point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vides information to the compiler that may enable it to produce more efficient code—a proces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tim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99 standard guarantees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no effect on the behavior of a program that conforms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programmers won’t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tri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unless they’re fine-tuning a program to achieve the best possible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6502-9B30-44B2-ABD7-F44833AB87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ccasionally, we’ll need to define a structure that contains an array of an unknown siz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might want a structure that stores the characters in a string together with the string’s lengt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N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a fixed-length array is undesirable: it limits the length of the string and wastes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60A-11E2-4B3D-8947-28E996C9C0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programmers traditionally solve this problem by declaring the leng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1 and then dynamically allocating each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1]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 - 1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echnique is known as the “struct hack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6CEB-FD2C-4452-8BC4-1208C5DCF77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 hack is supported by many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(including GCC) even allow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to have zero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89 standard doesn’t guarantee that the struct hack will work, but a C99 feature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lexible array memb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rves the same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907D-944E-40DC-BC50-3F561E7F3C3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makes it possible to write functions that return a pointer to a “new”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nsider the problem of writing a function that concatenates two strings without changing either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unction will measure the lengths of the two strings to be concatenated, the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the right amount of space for th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DD6A-C802-43A9-A882-20EA21B6A9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ast member of a structure is an array, its length may be omi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le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hars[]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lexible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rra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ember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-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C99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only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ength of the array isn’t determined until memory is allocated for a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v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vstring *str =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vstring) + n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-&gt;len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gnores 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when computing the size of the stru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B66B-9046-4DC8-B18C-3DEEB5269D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pecial rules for structures that contain a flexible array 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lexible array must be the last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ructure must have at least one other me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pying a structure that contains a flexible array member will copy the other members but not the flexible array itse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C4D3-C9D5-4552-9F7F-C99C4260A4B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lexible Array Members (C99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tructure that contains a flexible array member is an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complete type is missing part of the information needed to determine how much memory it requir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complete types are subject to various restrictio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n incomplete type can’t be a member of another structure or an element of an arr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an array may contain pointers to structures that have a flexible array memb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A0FC-5C2B-411F-AE1E-14FB9C1E3E7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44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concat(const char *s1, const char *s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trlen(s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len(s2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sult == NULL) 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\n"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sult, s1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sult, s2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123C-EE24-4793-B041-04081AB2A15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oncat("abc", "def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"abcde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is stored in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815E-4C85-4CA7-9210-E9C470959E8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Using Dynamic Storage Allocation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 String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such a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dynamically allocate storage must be used with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string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is no longer needed, we’ll want to call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the space that the string occup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don’t, the program may eventually run out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4C68-B4D1-489A-8AD7-79EADD9164D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based o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of Chapter 13, which prints a one-month list of daily remin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stores reminder strings in a two-dimensional array of charac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the array will be one-dimensional; its elements will be pointers to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140-A0D5-4B2B-837D-02E36AA9EA6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Printing a One-Month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Reminder List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switching to dynamically allocated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es space more efficiently by allocating the exact number of characters needed to store a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voids call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ve existing reminder strings in order to make room for a new rem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witching from a two-dimensional array to an array of pointers requires changing only eight lines of the program (shown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BAE-DEC2-41ED-9980-A880F30CBC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Prints a one-month reminder list (dynamic string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AX_REMIND 50   /* maximum number of remin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MSG_LEN 60      /* max length of reminder messa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reminders[MAX_REMI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day_str[3], msg_str[MSG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day, i, j, num_remind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80F3-C40A-4BF1-A332-7451FEEA56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’s data structures, including arrays, are normally fixed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ixed-size data structures can be a problem, since we’re forced to choose their sizes when writing a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tunately, C suppor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ability to allocate storage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dynamic storage allocation, we can design data structures that grow (and shrink)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A0B-9394-4179-B4CA-2AB742F3404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um_remind == MAX_REMIN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day and remind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2d", &amp;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day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printf(day_str, "%2d", da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msg_str, MSG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strcmp(day_str, reminders[i]) &l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j = num_remind; j &gt; i; j-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j] = reminders[j-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1E1-0E27-4E73-80D0-758E9FC158F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minders[i] = malloc(2 + strlen(msg_str) +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reminders[i]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-- No space left --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reminders[i], day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at(reminders[i], msg_st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remind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Day Reminder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um_remind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 %s\n", reminders[i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061-3BBC-4E8B-ACBC-75E62C8DC1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203040" y="7617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read_line(char str[]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ch, 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(ch = getchar()) != '\n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i &lt;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++] =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[i] = 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66FF-2399-4F52-80B9-7BDE122CF28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Array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arrays have the same advantages as dynamically allocated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lose relationship between arrays and pointers makes a dynamically allocated array as easy to use as an ordinar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allocate space for an array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sometimes used instead, since it initializes the memory that it alloc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allows us to make an array “grow” or “shrink”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B388-B70C-45BE-A049-46790C5015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a program needs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, 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mputed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first declare a point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*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known, the program can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space for the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malloc(n *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ways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to calculate the amount of space required for each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590B-63B0-4876-A121-BF250655634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Storage for an Array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now ignore the fact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and use it instead as an array name, thanks to the relationship between arrays and pointers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 example, we could use the following loop to initialize the arra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[i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also have the option of using pointer arithmetic instead of subscripting to access the elements of the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3621-3354-4592-9A25-76DC641343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an alternativ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calloc(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s space for an array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mem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lements, each of which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eturns a null pointer if the requested space isn’t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itializes allocated memory by setting all bits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2D3-586E-465C-9D39-BE2BFFE962A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c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llocates space for an arra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eg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 = calloc(n, sizeof(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1 as its first argument, we can allocate space for a data item of any typ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oint { int x, y; }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calloc(1, sizeof(struct point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5A0B-EE4B-43BD-8FDB-D29F6E47992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can resize a dynamically allocated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realloc(void *ptr, 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a memory block obtained by a previous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presents the new size of the block, which may be larger or smaller than the origin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472E-9FBB-4632-AF40-56BCD8B132D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perti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it expands a memory block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initialize the bytes that are added to the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’t enlarge the memory block as requested, it returns a null pointer; the data in the old memory block is un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a null pointer as its first argument, it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 with 0 as its second argument, it frees the memory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EEC3-655A-4513-BF5F-13BAE8CD1E5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 Storage Alloc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used most often for strings, arrays, and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ally allocated structures can be linked together to form lists, trees, and other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done by calling a memory alloc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3909-ACA1-47E1-B24B-29665A3A20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realloc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expec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be reasonably effici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sked to reduce the size of a memory block,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shrink the block “in place.”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hould always attempt to expand a memory block without moving i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can’t enlarge a block,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allocate a new block elsewhere, then copy the contents of the old block into the new 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returned, be sure to update all pointers to the memory block in case it has been mo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5A6F-47D9-4494-8200-DE72194758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the other memory allocation functions obtain memory blocks from a storage pool known a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e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these functions too often—or asking them for large blocks of memory—can exhaust the heap, causing the functions to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make matters worse, a program may allocate blocks of memory and then lose track of them, thereby wasting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9B58-7705-44B1-84B0-1E61169A3BF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snapshot after the first two statements have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B9C0-ECCC-4AC2-9F47-8084464F1C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1"/>
          <a:stretch/>
        </p:blipFill>
        <p:spPr>
          <a:xfrm>
            <a:off x="3276720" y="4243320"/>
            <a:ext cx="246996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both variables now point to the secon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no pointers to the first block, so we’ll never be able to use i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F23A-1043-4782-87DD-7732CE6EA17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6" descr=""/>
          <p:cNvPicPr/>
          <p:nvPr/>
        </p:nvPicPr>
        <p:blipFill>
          <a:blip r:embed="rId1"/>
          <a:stretch/>
        </p:blipFill>
        <p:spPr>
          <a:xfrm>
            <a:off x="3282840" y="2541600"/>
            <a:ext cx="25084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allocating Storag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lock of memory that’s no longer accessible to a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program that leaves garbage behind ha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emory l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languages provid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arbage colle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automatically locates and recycles garbage, but C doesn’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, each C program is responsible for recycling its own garbage by call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o release unneeded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FE5C-BEA5-4B61-98FB-A54C04BE4E5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free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free(void *p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passed a pointer to an unneeded memory b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q = malloc(…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leases the block of memory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7F4-5C4C-4933-B9D5-D7948AE940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eads to a new problem: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eallocates the memory block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, but doesn’t chang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we forget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 longer points to a valid memory block, chaos may ensu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*p = malloc(4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p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cpy(p, "abc");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the memory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is a serious err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3862-F66C-47B8-A909-9AC85305EC7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“Dangling Pointer” Proble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ngling pointers can be hard to spot, since several pointers may point to the same block of mem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block is freed, all the pointers are left dang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72E-9A52-4E9C-A058-E758A95B125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especially useful for building lists, trees, graphs, and other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ked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onsists of a chain of structures (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, with each node containing a pointer to the next node in the ch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last node in the list contain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B4C-69EB-4640-B599-84425909E8E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6" descr=""/>
          <p:cNvPicPr/>
          <p:nvPr/>
        </p:nvPicPr>
        <p:blipFill>
          <a:blip r:embed="rId1"/>
          <a:stretch/>
        </p:blipFill>
        <p:spPr>
          <a:xfrm>
            <a:off x="2286000" y="4425840"/>
            <a:ext cx="448164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Link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inked list is more flexible than an array: we can easily insert and delete nodes in a linked list, allowing the list to grow and shrink as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 the other hand, we lose the “random access” capability of an arr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y element of an array can be accessed in the same amount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node in a linked list is fast if the node is close to the beginning of the list, slow if it’s near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465-A715-4BE5-86AE-F5D16CE4693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Memory Allocation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 declares three memory allocation 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but doesn’t initializ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Allocates a block of memory and clear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—Resizes a previously allocated block of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functions return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a “generic” point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86B-8DC9-46B4-807D-E3060A8ACBA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 set up a linked list, we’ll need a structure that represents a single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ode structure will contain data (an integer in this example) plus a pointer to the nex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;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ore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x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oi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a tag, 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typede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ame, or there would be no way to declare the typ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62B8-44BC-49C3-B9C5-6FB72FB922A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claring a Node Typ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need a variable that always points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s that the list is initially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B35B-659E-49A6-B456-F64094E396B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 we construct a linked list, we’ll create nodes one by one, adding each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s involved in creating a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ocate memory for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ore data in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 the node into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concentrate on the first two steps for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8B94-408F-434E-9AAA-34A6C32A3E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reate a node, we’ll need a variable that can point to the node temporari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llocate memory for the new node, saving the return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a block of memory just large enough to hol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CE30-7A3D-4120-A146-70CA5B2E2A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6" descr=""/>
          <p:cNvPicPr/>
          <p:nvPr/>
        </p:nvPicPr>
        <p:blipFill>
          <a:blip r:embed="rId1"/>
          <a:stretch/>
        </p:blipFill>
        <p:spPr>
          <a:xfrm>
            <a:off x="2857680" y="5291280"/>
            <a:ext cx="336384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Creating a Nod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store data i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of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resulting pi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e mandatory beca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would otherwise take precedence ove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420-B113-439C-9229-03CA2B85330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6" descr=""/>
          <p:cNvPicPr/>
          <p:nvPr/>
        </p:nvPicPr>
        <p:blipFill>
          <a:blip r:embed="rId1"/>
          <a:stretch/>
        </p:blipFill>
        <p:spPr>
          <a:xfrm>
            <a:off x="2846520" y="3576600"/>
            <a:ext cx="3363840" cy="7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ccessing a member of a structure using a pointer is so common that C provides a special operator for this purp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operator,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ght arrow select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inus sign followed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, we can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new_node).value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CAA-F98F-4BDD-A556-12C7E714528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-&gt;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Operato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-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produces an lvalue, so we can use it wherever an ordinary variable would be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operator is still required, even thoug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F6C-E4BF-4ABD-9DC4-01026924EB8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 advantages of a linked list is that nodes can be added at any poi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the beginning of a list is the easiest place to insert a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uppos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node to be inserted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the first node in the linked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D07C-1E30-40DD-B47C-01DB8A9B7F4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takes two statements to insert the node in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first step is to modify the new node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ember to point to the node that was previously at the beginning of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econd step is 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 to the new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se statements work even if the list is emp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29CC-9873-47F3-ADC6-C18C0F56C9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et’s trace the process of inserting two nodes into an empty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’ll insert a node containing the number 10 first, followed by a node containing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C516-667F-4696-A180-58F8161616C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a memory allocation function can’t locate a memory block of the requested size, it return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null pointer is a special value that can be distinguished from all valid poin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we’ve stored the function’s return value in a pointer variable, we must test to see if it’s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EE16-D296-4135-9613-1283497AC60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tretch/>
        </p:blipFill>
        <p:spPr>
          <a:xfrm>
            <a:off x="4708440" y="3352680"/>
            <a:ext cx="3686400" cy="12636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E2AA-01F7-4F3D-B5F6-BA19E44CB5D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4699080" y="1676520"/>
            <a:ext cx="1365120" cy="123984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9" descr=""/>
          <p:cNvPicPr/>
          <p:nvPr/>
        </p:nvPicPr>
        <p:blipFill>
          <a:blip r:embed="rId3"/>
          <a:stretch/>
        </p:blipFill>
        <p:spPr>
          <a:xfrm>
            <a:off x="4695840" y="4952880"/>
            <a:ext cx="36860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(sizeof(struct node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9" descr=""/>
          <p:cNvPicPr/>
          <p:nvPr/>
        </p:nvPicPr>
        <p:blipFill>
          <a:blip r:embed="rId1"/>
          <a:stretch/>
        </p:blipFill>
        <p:spPr>
          <a:xfrm>
            <a:off x="4687920" y="4956120"/>
            <a:ext cx="3701880" cy="12225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8E9B-216C-421D-8AF4-4A517FCEC40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Picture 6" descr=""/>
          <p:cNvPicPr/>
          <p:nvPr/>
        </p:nvPicPr>
        <p:blipFill>
          <a:blip r:embed="rId2"/>
          <a:stretch/>
        </p:blipFill>
        <p:spPr>
          <a:xfrm>
            <a:off x="4686480" y="1685880"/>
            <a:ext cx="3708360" cy="12286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"/>
          <p:cNvPicPr/>
          <p:nvPr/>
        </p:nvPicPr>
        <p:blipFill>
          <a:blip r:embed="rId3"/>
          <a:stretch/>
        </p:blipFill>
        <p:spPr>
          <a:xfrm>
            <a:off x="4726080" y="3368520"/>
            <a:ext cx="3679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2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3F73-0F86-4667-AFAB-FBF90F07A1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Picture 6" descr=""/>
          <p:cNvPicPr/>
          <p:nvPr/>
        </p:nvPicPr>
        <p:blipFill>
          <a:blip r:embed="rId1"/>
          <a:stretch/>
        </p:blipFill>
        <p:spPr>
          <a:xfrm>
            <a:off x="4700520" y="1685880"/>
            <a:ext cx="3679920" cy="12225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"/>
          <p:cNvPicPr/>
          <p:nvPr/>
        </p:nvPicPr>
        <p:blipFill>
          <a:blip r:embed="rId2"/>
          <a:stretch/>
        </p:blipFill>
        <p:spPr>
          <a:xfrm>
            <a:off x="4726080" y="3343320"/>
            <a:ext cx="3668760" cy="12747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"/>
          <p:cNvPicPr/>
          <p:nvPr/>
        </p:nvPicPr>
        <p:blipFill>
          <a:blip r:embed="rId3"/>
          <a:stretch/>
        </p:blipFill>
        <p:spPr>
          <a:xfrm>
            <a:off x="4713120" y="4940280"/>
            <a:ext cx="36687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inserts a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to a linked list, which pointed to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E68-FB72-4E88-BE68-DCFCBB3EB1D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 pointer to the newly created node (now at the beginning of the li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we call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’ll need to store its return value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2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updat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irectly, rather than return a new valu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urns out to be trick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B318-D92A-44C4-92EA-E28CE44F64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Inserting a Node at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Beginning of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that uses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create a linked list containing numbers entered by the us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read_numbers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firs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ri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er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terminate)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 ==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fir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 = add_to_list(first,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umbers will be in reverse order within the li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F88-35EF-4986-9E4D-90D1156B6CB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houg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oop can be used to search a list,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 is often sup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visits the nodes in a linked list, using a pointer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keep track of the “current”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first; p != NULL; p = p-&gt;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of this form can be used in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that searches a list for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9D92-D0AF-4B92-A3B3-14A062E7D56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fi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will return a pointer to the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; otherwise, it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initial version of the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list; p != NULL; p = p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057-60D2-4143-939D-75933B5E96E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many other ways to writ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alternative is to eliminate th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ariable, instead u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self to keep track of the current nod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; 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list-&gt;value =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copy of the original list pointer, there’s no harm in changing it within the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DF62-814F-4174-8731-A2291EB6071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other altern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 list != NULL &amp;&amp; list-&gt;value !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list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we reach the end of the list,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rrect even if we don’t fi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2AFC-9839-4962-A70B-00AB60AF3AD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example of tes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return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malloc(100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macro (defined in various library headers) that represents the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programmers combine th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th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(p = malloc(10000)) =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/*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lloca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tak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ppropriate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action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EFE-DFF4-49F3-A58E-73CA9DAFE4C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Searching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4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earch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ight be a bit clearer if we use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a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search_list(struc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od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,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list != NULL &amp;&amp; list-&gt;value !=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1F91-2E75-4BB5-AE5B-588CCDEE86F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ig advantage of storing data in a linked list is that we can easily delete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a node involves three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cate the node to be del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 the previous node so that it “bypasses”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509040">
              <a:lnSpc>
                <a:spcPts val="2699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reclaim the space occupied by the deleted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1 is harder than it looks, because step 2 requires chang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evio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various solutions to this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7571-5248-415D-9687-812D4FD1F5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“trailing pointer” technique involves keeping a pointer to the previous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 as well as a pointer to the current node (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list to be search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integer to be de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implements step 1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node to be deleted and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 the previous n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8635-7045-4841-82C3-9A687C37270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ssume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the following appearance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2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627F-3934-4766-A71F-77BCD8CBCC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6" descr=""/>
          <p:cNvPicPr/>
          <p:nvPr/>
        </p:nvPicPr>
        <p:blipFill>
          <a:blip r:embed="rId1"/>
          <a:stretch/>
        </p:blipFill>
        <p:spPr>
          <a:xfrm>
            <a:off x="1106640" y="2538360"/>
            <a:ext cx="7107120" cy="58572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6" descr=""/>
          <p:cNvPicPr/>
          <p:nvPr/>
        </p:nvPicPr>
        <p:blipFill>
          <a:blip r:embed="rId2"/>
          <a:stretch/>
        </p:blipFill>
        <p:spPr>
          <a:xfrm>
            <a:off x="1104840" y="4255920"/>
            <a:ext cx="714384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rue, 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pointing to a node and the node doesn’t contain 2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as been execu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51B7-2D97-44D6-8FDE-530E2654F81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1106640" y="3914640"/>
            <a:ext cx="7115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tes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gain true, s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executed once more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now points to the node containing 20, the conditio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!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false and the loop termin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421D-8447-4732-B0DD-E8C211EAE91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6" descr=""/>
          <p:cNvPicPr/>
          <p:nvPr/>
        </p:nvPicPr>
        <p:blipFill>
          <a:blip r:embed="rId1"/>
          <a:stretch/>
        </p:blipFill>
        <p:spPr>
          <a:xfrm>
            <a:off x="1106640" y="3014640"/>
            <a:ext cx="709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xt, we’ll perform the bypass required by step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kes the pointer in the previous node point to the n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07A9-D554-4DAB-831A-AC1675950C1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" descr=""/>
          <p:cNvPicPr/>
          <p:nvPr/>
        </p:nvPicPr>
        <p:blipFill>
          <a:blip r:embed="rId1"/>
          <a:stretch/>
        </p:blipFill>
        <p:spPr>
          <a:xfrm>
            <a:off x="939960" y="4052880"/>
            <a:ext cx="7164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ep 3 is to release the memory occupied by the current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3AA3-F0CE-4E77-8BEB-C2038FEE323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uses the strategy just outl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a list and an integ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the function deletes the first node conta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no node contai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lete_from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either case, the function returns a pointer to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leting the first node in the list is a special case that requires a different bypass ste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4C1B-9946-4C95-A73E-83AF74A21B2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eleting a Node from a Linked Lis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6858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delete_from_list(struct node *list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cur, *pre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list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cur-&gt;value !=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=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             /* n was not fou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 = list-&gt;next;       /* n is in the first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cur-&gt;next;  /* n is in some other nod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cu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l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149-5A7D-44B3-9443-F501BF5F46D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Null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s test true or false in the same way as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l non-null pointers test true; only null pointers are fa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=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!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tead of wri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ould wri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)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F939-5750-4525-8599-F6255E6298D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Ordered Lis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odes of a list are kept in order—sorted by the data stored inside the nodes—we say that the list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serting a node into an ordered list is more difficult, because the node won’t always be put at the beginning of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However, searching is faster: we can stop looking after reaching the point at which the desired node would have been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1915-65FF-49B6-AA59-D09AA704D79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rogram is a modification of the parts database program of Chapter 16, with the database stored in a linked list thi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dvantages of using a link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 need to put a limit on the size of the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base can easily be kept sorted by part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the database wasn’t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8AC1-FB7B-4EAB-9DC2-A1118591470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 will contain an additional member (a pointer to the next nod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point to the first node in the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F6E9-AD14-4E94-95E0-77810182219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st of the functions in the new program will closely resemble their counterparts in the original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be more complex, however, since we’ll keep the nodes in the inventory list sorted by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C9D-7417-412B-A27B-1B5C74EA7D3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original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turns an index in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the new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pointer to the node that contains the desired part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it doesn’t find the part numbe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return a null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D362-9C2C-4C21-BF7E-65DD07114A5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the list of parts is sorted,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stop when it finds a node containing a part number that’s greater than or equal to the desired par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新細明體"/>
              </a:rPr>
              <a:t>find_pa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’s search 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loop terminates, we’ll need to test whether the part was fou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9866-5CA3-4AE6-9854-0C0269AD755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original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ores a new part in the next available array e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new version must determine where the new part belongs in the list and insert it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 will also check whether the part number is already present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loop that accomplishes both tas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84C-FE70-4FF2-84E3-AEF50A29B80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rogram: Maintaining a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arts Database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ce the loop terminates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check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n’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wheth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equa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-&gt;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both are true, the part number is already in the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wise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insert a new node between the nodes pointed to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strategy works even if the new part number is larger than any in the l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ke the original program, this version requir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of Chapter 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110A-209B-4BCF-8F41-E8C1FD39C0C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 txBox="1"/>
          <p:nvPr/>
        </p:nvSpPr>
        <p:spPr>
          <a:xfrm>
            <a:off x="384120" y="761760"/>
            <a:ext cx="84549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 Maintains a parts database (linked list versio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"readline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NAME_LEN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name[NAME_LEN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on_ha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n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inventory = NULL;   /* points to firs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2C5D-7F8C-457F-98CE-AACE3A84F855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main: Prompts the user to enter an operation code,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then calls a function to perform the requested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action. Repeats until the user enters the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command 'q'. Prints an error message if the user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enters an illegal code.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har c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;;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operation cod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 %c", &amp;c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while (getchar() != '\n')   /* skips to end of li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700-0D4E-4063-95FB-7B737A2F3AE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Dynamically Allocated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ynamic storage allocation is often useful for working with 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trings are stored in character arrays, and it can be hard to anticipate how long these arrays need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y allocating strings dynamically, we can postpone the decision until the program is ru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91D2-BB7E-427A-8155-950F3A6BAC6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witch (co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i': inser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s': search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u': updat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p': print()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ase 'q': 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efault:  printf("Illegal code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DB3B-8382-4CF7-ADC5-5B2EAF55066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find_part: Looks up a part number in the inventory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list. Returns a pointer to the node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containing the part number; if the part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   number is not found, returns NULL.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find_part(int 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!= NULL &amp;&amp; number &gt; p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 &amp;&amp; number == p-&gt;nu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CE59-5A27-4C80-BD3D-ECAE630819C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insert: Prompts the user for information about a new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and then inserts the part into the   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nventory list; the list remains sorted by    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art number. Prints an error message and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returns prematurely if the part already exists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or space could not be allocated for the part.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inser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cur, *prev, *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par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Database is full; can't add more par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0E2A-2FAD-4F99-AC50-7C8D25D1C3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cur = inventory, prev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cur != NULL &amp;&amp; new_node-&gt;number &gt; cur-&gt;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 = cur, cur = cur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cur != NULL &amp;&amp; new_node-&gt;number == cur-&gt;number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already exists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ree(new_no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am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ad_line(new_node-&gt;name, NAME_LE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ew_node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cu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rev ==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ev-&gt;next = new_no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B64-93C7-49FF-A6FB-C81F83C1E4E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search: Prompts the user to enter a part number, then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looks up the part in the database. If the part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s, prints the name and quantity on hand;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if not, prints an error message.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search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ame: %s\n", p-&gt;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Quantity on hand: %d\n", 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FAB6-999E-42D4-9C91-1CF348D372AA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update: Prompts the user to enter a part number.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Prints an error message if the part doesn't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exist; otherwise, prompts the user to enter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change in quantity on hand and updates the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 database.      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update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number,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part number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 = find_part(numbe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p != NULL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nter change in quantity on hand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canf("%d", &amp;chan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 += chang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ot found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FBE-6127-41D1-8102-FABB447CE3F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380880" y="761760"/>
            <a:ext cx="83822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/********************************************************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print: Prints a listing of all parts in the database,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showing the part number, part name, and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quantity on hand. Part numbers will appear in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        ascending order.                               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*********************************************************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int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par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Part Number   Part Name                 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"Quantity on Hand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p = inventory; p != NULL; p = p-&gt;n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%7d       %-25s%11d\n", p-&gt;number, p-&gt;na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p-&gt;on_han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21D-55E9-4D04-A0FF-D8A03B20DBF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hapter 13 introduced the idea of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concept of “pointers to pointers” also pops up frequently in the context of linked data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when an argument to a function is a pointer variable, we may want the function to be able to modify the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ing so requires the use of a pointer to a 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D096-73F2-4686-BFD7-3EB9B119A9D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685800" y="1523520"/>
            <a:ext cx="7835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 is passed a pointer to the first node in a list; it returns a pointer to the first node in the updated l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add_to_list(struct node 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933F-4611-4A86-BB80-0AB08148542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odify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o that it assig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retur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doesn’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t the point of the call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opied in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f the function changes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making it point to the new nod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not aff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DEF-1CEC-4554-8B95-FEF2BF40E359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29920" y="7617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Using </a:t>
            </a:r>
            <a:r>
              <a:rPr b="1" lang="en-US" sz="3000" spc="-1" strike="noStrike">
                <a:solidFill>
                  <a:srgbClr val="b82f25"/>
                </a:solidFill>
                <a:latin typeface="Courier New"/>
                <a:ea typeface="新細明體"/>
              </a:rPr>
              <a:t>malloc</a:t>
            </a:r>
            <a:r>
              <a:rPr b="0" lang="en-US" sz="3000" spc="-1" strike="noStrike">
                <a:solidFill>
                  <a:srgbClr val="b82f25"/>
                </a:solidFill>
                <a:latin typeface="Arial"/>
                <a:ea typeface="新細明體"/>
              </a:rPr>
              <a:t> to Allocate Memory for a String</a:t>
            </a:r>
            <a:endParaRPr b="0" lang="en-US" sz="30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*malloc(size_t siz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llocates a block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ytes and returns a pointer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n unsigned integer type defined in the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82D-AAB6-468B-B479-24B7F5AB8A9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ett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modify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requires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add_to_list(struct node **list, int 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struct node *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 = malloc(sizeof(struct node)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f (new_node == NULL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printf("Error: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mallo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faile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exit(EXIT_FAILURE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value = n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-&gt;next = *li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 = new_node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3DF6-A29D-43BE-A893-6C4B0B5D90EF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Point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the new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the first argument will be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add_to_list(&amp;first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ssigned the addres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lias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 particular, assig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new_n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*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will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C14-FA3C-43C5-A90B-D6F70C2912B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Pointers to 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 doesn’t require that pointers point on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t’s also possible to have pointer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unctions occupy memory locations, so every function has an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e can use function pointers in much the same way we use pointers to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assing a function pointer as an argument is fairly comm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CF0-33A4-4318-8C23-92CE54611A5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function name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a mathematical function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can be made as general as possible by passing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s an argu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(*f)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parentheses around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*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dicate that </a:t>
            </a:r>
            <a:r>
              <a:rPr b="0" lang="en-US" sz="27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a fun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n alternative prototyp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integrate(double </a:t>
            </a:r>
            <a:r>
              <a:rPr b="1" lang="en-US" sz="2300" spc="-1" strike="noStrike">
                <a:solidFill>
                  <a:srgbClr val="ff7706"/>
                </a:solidFill>
                <a:latin typeface="Courier New"/>
                <a:ea typeface="新細明體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)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          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a, double b)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92E-E46B-486C-8170-077A152012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Function Pointers as Argu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integrate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s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sine) function from 0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/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sult = integrate(sin, 0.0, PI / 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a function name isn’t followed by parentheses, the C compiler produces a pointer to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ithin the body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e can call the function th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y = (*f)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ri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f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(*f)(x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159-0B5E-4A29-A131-63C0BAF3F2A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685800" y="761760"/>
            <a:ext cx="80265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#define incr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egrat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(double (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(double)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,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double x, sum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i, num_interval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num_intervals = ceil((b - a) / inc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for (i = 0; i &lt;= num_intervals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x = a + i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+= f(x) * inc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0A5-EDBF-4D42-BFEA-096BAB49F2A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me of the most useful functions in the C library require a function pointer as an arg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ne of these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which belongs to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stdlib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hea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general-purpose sorting function that’s capable of sorting any arr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07CD-849D-45AC-97AD-5B9EAD989902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be told how to determine which of two array elements is “small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is done by pas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 pointer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given two pointer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o array elements, the comparison function must return an integer tha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less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e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equal to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“greater than”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新細明體"/>
              </a:rPr>
              <a:t>*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3634-6405-4A79-8B85-EC75C2D0C9F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8"/>
          <p:cNvSpPr/>
          <p:nvPr/>
        </p:nvSpPr>
        <p:spPr>
          <a:xfrm>
            <a:off x="6507000" y="2079720"/>
            <a:ext cx="171000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9"/>
          <p:cNvSpPr/>
          <p:nvPr/>
        </p:nvSpPr>
        <p:spPr>
          <a:xfrm>
            <a:off x="4481640" y="2079720"/>
            <a:ext cx="184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2771640" y="2079720"/>
            <a:ext cx="1486080" cy="31428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7"/>
          <p:cNvSpPr/>
          <p:nvPr/>
        </p:nvSpPr>
        <p:spPr>
          <a:xfrm>
            <a:off x="1371600" y="2394000"/>
            <a:ext cx="6324480" cy="304920"/>
          </a:xfrm>
          <a:prstGeom prst="rect">
            <a:avLst/>
          </a:prstGeom>
          <a:solidFill>
            <a:srgbClr val="ffcc6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totype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void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_t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int (*</a:t>
            </a:r>
            <a:r>
              <a:rPr b="1" lang="en-US" sz="20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新細明體"/>
              </a:rPr>
              <a:t>)(const void *, const void *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must point to the first element in the array (or the first element in the portion to be sorte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nmem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number of elements to be s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s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the size of each array element, measured in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82f25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82f25"/>
                </a:solidFill>
                <a:latin typeface="Courier New"/>
                <a:ea typeface="新細明體"/>
              </a:rPr>
              <a:t>comp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pointer to the comparis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52C-6354-4DD8-8426-6178D905BFA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新細明體"/>
              </a:rPr>
              <a:t>qsort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  <a:ea typeface="新細明體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called, it sorts the array into ascending order, calling the comparison function whenever it needs to compare arra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hat sort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inven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rray of Chapter 1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qsort(inventory, num_parts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新細明體"/>
              </a:rPr>
              <a:t>sizeof(struct part), compare_parts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compare_p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a function that compares tw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新細明體"/>
              </a:rPr>
              <a:t>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tru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  <a:ea typeface="新細明體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256D-83AE-45E8-9C14-BF2AA8111C73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YKCHANG</cp:lastModifiedBy>
  <cp:lastPrinted>1999-11-08T20:52:53Z</cp:lastPrinted>
  <dcterms:modified xsi:type="dcterms:W3CDTF">2013-01-06T13:03:25Z</dcterms:modified>
  <cp:revision>1070</cp:revision>
  <dc:subject/>
  <dc:title>No Slide Title</dc:title>
</cp:coreProperties>
</file>