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22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8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7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  <p:sldId id="388" r:id="rId146"/>
    <p:sldId id="389" r:id="rId147"/>
    <p:sldId id="390" r:id="rId148"/>
    <p:sldId id="391" r:id="rId149"/>
    <p:sldId id="392" r:id="rId150"/>
    <p:sldId id="393" r:id="rId151"/>
    <p:sldId id="394" r:id="rId152"/>
    <p:sldId id="395" r:id="rId153"/>
    <p:sldId id="396" r:id="rId154"/>
    <p:sldId id="397" r:id="rId155"/>
    <p:sldId id="398" r:id="rId156"/>
    <p:sldId id="399" r:id="rId157"/>
    <p:sldId id="400" r:id="rId158"/>
    <p:sldId id="401" r:id="rId159"/>
    <p:sldId id="402" r:id="rId160"/>
    <p:sldId id="403" r:id="rId161"/>
    <p:sldId id="404" r:id="rId162"/>
    <p:sldId id="405" r:id="rId163"/>
    <p:sldId id="406" r:id="rId164"/>
    <p:sldId id="407" r:id="rId165"/>
    <p:sldId id="408" r:id="rId166"/>
    <p:sldId id="409" r:id="rId167"/>
    <p:sldId id="410" r:id="rId168"/>
    <p:sldId id="411" r:id="rId169"/>
    <p:sldId id="412" r:id="rId170"/>
    <p:sldId id="413" r:id="rId171"/>
    <p:sldId id="414" r:id="rId172"/>
    <p:sldId id="415" r:id="rId173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slide" Target="slides/slide133.xml"/><Relationship Id="rId147" Type="http://schemas.openxmlformats.org/officeDocument/2006/relationships/slide" Target="slides/slide134.xml"/><Relationship Id="rId148" Type="http://schemas.openxmlformats.org/officeDocument/2006/relationships/slide" Target="slides/slide135.xml"/><Relationship Id="rId149" Type="http://schemas.openxmlformats.org/officeDocument/2006/relationships/slide" Target="slides/slide136.xml"/><Relationship Id="rId150" Type="http://schemas.openxmlformats.org/officeDocument/2006/relationships/slide" Target="slides/slide137.xml"/><Relationship Id="rId151" Type="http://schemas.openxmlformats.org/officeDocument/2006/relationships/slide" Target="slides/slide138.xml"/><Relationship Id="rId152" Type="http://schemas.openxmlformats.org/officeDocument/2006/relationships/slide" Target="slides/slide139.xml"/><Relationship Id="rId153" Type="http://schemas.openxmlformats.org/officeDocument/2006/relationships/slide" Target="slides/slide140.xml"/><Relationship Id="rId154" Type="http://schemas.openxmlformats.org/officeDocument/2006/relationships/slide" Target="slides/slide141.xml"/><Relationship Id="rId155" Type="http://schemas.openxmlformats.org/officeDocument/2006/relationships/slide" Target="slides/slide142.xml"/><Relationship Id="rId156" Type="http://schemas.openxmlformats.org/officeDocument/2006/relationships/slide" Target="slides/slide143.xml"/><Relationship Id="rId157" Type="http://schemas.openxmlformats.org/officeDocument/2006/relationships/slide" Target="slides/slide144.xml"/><Relationship Id="rId158" Type="http://schemas.openxmlformats.org/officeDocument/2006/relationships/slide" Target="slides/slide145.xml"/><Relationship Id="rId159" Type="http://schemas.openxmlformats.org/officeDocument/2006/relationships/slide" Target="slides/slide146.xml"/><Relationship Id="rId160" Type="http://schemas.openxmlformats.org/officeDocument/2006/relationships/slide" Target="slides/slide147.xml"/><Relationship Id="rId161" Type="http://schemas.openxmlformats.org/officeDocument/2006/relationships/slide" Target="slides/slide148.xml"/><Relationship Id="rId162" Type="http://schemas.openxmlformats.org/officeDocument/2006/relationships/slide" Target="slides/slide149.xml"/><Relationship Id="rId163" Type="http://schemas.openxmlformats.org/officeDocument/2006/relationships/slide" Target="slides/slide150.xml"/><Relationship Id="rId164" Type="http://schemas.openxmlformats.org/officeDocument/2006/relationships/slide" Target="slides/slide151.xml"/><Relationship Id="rId165" Type="http://schemas.openxmlformats.org/officeDocument/2006/relationships/slide" Target="slides/slide152.xml"/><Relationship Id="rId166" Type="http://schemas.openxmlformats.org/officeDocument/2006/relationships/slide" Target="slides/slide153.xml"/><Relationship Id="rId167" Type="http://schemas.openxmlformats.org/officeDocument/2006/relationships/slide" Target="slides/slide154.xml"/><Relationship Id="rId168" Type="http://schemas.openxmlformats.org/officeDocument/2006/relationships/slide" Target="slides/slide155.xml"/><Relationship Id="rId169" Type="http://schemas.openxmlformats.org/officeDocument/2006/relationships/slide" Target="slides/slide156.xml"/><Relationship Id="rId170" Type="http://schemas.openxmlformats.org/officeDocument/2006/relationships/slide" Target="slides/slide157.xml"/><Relationship Id="rId171" Type="http://schemas.openxmlformats.org/officeDocument/2006/relationships/slide" Target="slides/slide158.xml"/><Relationship Id="rId172" Type="http://schemas.openxmlformats.org/officeDocument/2006/relationships/slide" Target="slides/slide159.xml"/><Relationship Id="rId173" Type="http://schemas.openxmlformats.org/officeDocument/2006/relationships/slide" Target="slides/slide16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5E24-B4D1-4D66-9B6E-E0DEBBBFF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4C08-865A-46D9-8D0B-69A8D0EC6B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06C20-37D7-430C-BDFD-3FC4DE021FC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BB329-8322-4E67-8385-26E35B8EE65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ED32-5DAE-4AB3-94FB-CB7D0ADA24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B57D-E943-4FEE-8877-0E09A56E0E8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4C41E-3565-415B-9793-95E92810298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FF58F-A57C-4C70-A5A7-1564CD894C5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E53A6-4426-4F52-B731-AD5DB3FFA1F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21627-C989-4F1C-92F7-7C78404779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4CAB4-1EE1-47D1-A069-3DFF37E9541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F003B-32A2-4716-A646-484599BBF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DB29-4B88-4548-951A-9E82CB5F52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F16F7-A2CF-468B-85F2-64989F34896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54862-DC34-43D3-88E8-43D4F25CC74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134EF-C771-4146-B9BF-93338D2D5C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62B8A7-333B-4015-9382-CD03CFCEE1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FB977-557C-4BAB-AC0B-1F54436532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18439-A216-43AC-A989-41A004376C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12A51-115E-420E-B21B-A239BDD599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4015C-7425-4160-9557-EF4E324C46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E35C4F-E80E-430E-8057-0C4DB7BBAE6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03C95-7B99-47DC-9981-0EC5FE322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416E-4019-4B67-A357-D4E841655DA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CD3E1-376B-4799-8F3B-A9C61E349D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53D01C-E05F-46C7-94F8-120B1F426BA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49B73-139A-44DE-AE08-24065E7C72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D1C34D-8F36-404D-BE58-1613540510D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7D4400-CF43-40FE-936F-01603BCCC8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7C2BF5-3810-49A4-98FC-8AA22D0521D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C3DCBA-0A18-49A7-A0AD-4EA568B370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CDB1F8-863D-456B-A624-DA2124E4AF7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245C6-1C3A-4F20-AFE5-9EF48F4054F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CE0B63-422B-47A4-BA4C-4625BBFF2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0B3AC-4C7B-4E2F-8A76-8EA04002BFC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7299A-BE56-49B3-8B84-B6FAE38E655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C63168-39FF-4446-B87D-F35C85D42E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C24CA0-20C9-41F8-BC0E-EBAB2B5B63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80EE4-EE2B-404B-9DFD-D4FCEC6DEB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E5F0A-0ADE-47B7-A393-F69EC8E7316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E9945-CC85-44AE-BFAC-F77A57E14DD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B9C23-F35C-40F5-8920-C318E5ED1E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52E0-03C9-4265-8790-07CF62C418B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45F14-C519-409E-B0CD-E545F5B86D6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DD25-7680-47E3-AAE8-65DCFECB8D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05F3-5C1D-4552-9D8A-CB942D1D6D8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B370A-38DD-4445-945C-D08538C1F42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A77C9-4280-4C87-9D9D-3A552185A13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D1083-AA38-4808-A857-C522B136D22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5864-8233-44E3-ACF3-DF318FC13C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CFB6-69EF-4CF2-BA29-D8096F9363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96E0A-3C53-4DF4-9C52-E23485EB8A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3CB1A-55DB-4BFD-AEC4-B5B64DED4C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5F1D7-DF13-4BC4-BE35-754963C915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7D71B-6222-478C-9214-5847D49D32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030DB-5584-4B01-8163-74BAF18D6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2C3E-CFEF-476F-B48B-F2D2A47E8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37CB4-6ABA-4F4C-849B-4BB123968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42127-4506-4567-9279-D71335C03C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10254-A746-4410-9E44-165E8F4F9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80443-3427-495E-A097-A30A42897C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68031-FFFB-4C9C-9280-F8BF52FF37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FA20-6124-42AA-86DD-57BD5EE795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0B45-2DE4-45BC-9E09-18E6DF5BC1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E5C-E1DF-4671-BC58-492AC5E7B6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7642-AF9E-4C0A-A7CD-3163751F73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16C4-1C9D-4244-B5A6-DAEDC64254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A89CA-BD5C-4744-94B2-0A1BE8069B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6717-C331-47B2-B43F-F37E3A45F9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FCF9-9EF1-4EA8-BAA1-28923AFBF4D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5D49-3D2F-4D3F-9420-B48ABB9C1E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9924-401A-4F68-AFD8-6477188C17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1DD7-FD52-462F-B275-8F875010AD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4A6A-2EBF-4CA0-89E2-733162BC89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3E0-1EBA-44FE-8071-65B240651A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11279-2D9F-4C21-AC54-C9409C17BF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B391D-D476-4917-905E-035B9F46FF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38B98-BDF7-4702-A5EE-7E662511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B7F4-0415-4C24-B330-54884A1970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85D18-0D74-4541-AF0F-E44493BDE3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1B3B9-5CD2-4829-A1ED-2F583C8F47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A44E8-CFE7-4D70-9B55-B5704ED680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866DB-20EE-4A4B-8844-4258202367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6A44E-696B-45A7-AE17-025972AFF58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A6166-3AED-4ADB-98BF-A7127B811A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3D415-9528-4BCA-97BB-46E2D69134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4CCDB-1A7E-4C60-AEDC-0A540E6934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6A989-2457-41CD-AD61-336D44D210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CC9BD-1E31-46EE-B095-908D0DF0F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CFCE-EBAC-4E30-BA45-2BAB8546D23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10672-AFF4-4E7E-90BA-689882678E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CD092-DF91-4536-997B-2E049AC3D2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1A2097-98B2-4F7C-9385-54BCAF1F10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FF16FE-9822-4367-AF44-5C099676A4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C86031-D094-403A-9B8A-5C7F61FCBC5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1C7C8-EE57-4BBF-9522-9E9CA2E4998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D6759-5758-4984-8F2D-EAF7DF4F4A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6D06FD-996A-4816-9ECA-22835436D3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FB5CD-BCCC-4727-BACA-153398FB27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FD184-50D5-41A8-9737-E2868683A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38D2-2F29-4251-A6CF-AFF4FD534F1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8AF52-1AE5-426A-89AF-704D09F0B94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814A-0B7E-4F14-95CD-518D70DE4F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0E511-DBCA-48C0-BB14-6D5281CC1E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2A7BB-D15B-4B7B-B3B8-DF2A387BF16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5AC2F-E4AD-44A9-A221-E9552506B7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03B3-33D8-497E-8EC2-C3D4BC10B8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4B0F-8D54-4A41-8DA0-4129D1C275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86FF-7A55-4EF7-8146-4211280A36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757C-CA6D-4610-AB20-72A3FAF691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CED7C-090D-4B88-9946-DC58F3327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D1FA-83BB-4D47-A4FC-9197189FB5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5D170-331B-4C4F-8FDC-F5CB3BA3F06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1ADC-38CB-4347-B143-12057E92598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82A7-E217-4449-BE04-7596A30596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3B642-9186-46DE-8DBE-7AC4772263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BFCFE-2D04-4C5E-9B1D-18305E1A69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A4238-97F0-488F-B6F9-000C18EDD2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20AD7-D1BF-4D6C-90FD-76B2714491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CFA55-AD22-4006-82C3-37D65373C4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3019E-7100-46B2-BFD2-5F030FDE5F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B4A72B-78AF-4282-8FD7-BDEA1897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7402-7E42-493B-9A11-D32677EB4E8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786BD-20A1-4F49-921C-ED2CA67DDB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DEDDD-7ABA-463E-A9FE-ADED39ADD1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75A26-A525-4022-B6A7-1E455BAEE5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C5DC7-7152-4DE3-9549-F29DA1476A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1B2C1-6D7A-42AC-9B90-1007AF5BE52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B9087-7176-4212-A294-5E91C0A9C40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713563-15E8-4067-A1B9-3A24B00ACB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217E7-068C-4522-A4A9-99FFD6D85FE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7D37EE-9F1A-42A0-8DF1-15644D3C073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D7A951-A734-43C4-A267-A94274FDA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C071-18FC-419A-9AFE-572BE7F8FB8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9CA76B-E01F-4CDD-894B-FA96DA3EE2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7AD1DE-AACE-4319-A046-F84CD5AAC15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9DC4ED-CDA1-4BD4-B4E0-D32AFF5C2D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4E9610-51DA-4F79-BB5F-826DE3B53EC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FA5676-75C3-464F-BA61-AB6E390B93C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34001-7B1A-4AF1-AB14-A47906CB98E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2D8FD8-3CFA-4C76-866A-148E2796EE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1C8C3-45E8-44F6-8E5D-E94E96DB4E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6EE3C-46FC-4B24-8C9A-F366ACC94F6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8688-3F26-4746-A8A7-AF33D6924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5E6-14B1-4FAC-BD79-88B795648E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E310-D4E6-414C-BF68-BA6C3520D2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4CA9-EA18-4A87-A180-AF3B91BF3A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F92-A3AB-4299-ADAF-DE07295E52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17E6-F18A-47E5-BFDC-185BA44170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F86-E395-471A-9DCA-7DD759E5F92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BDB-542C-4F06-932B-0D3C392445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6E10-83BD-4042-AA94-7468CB8C20F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F5D7-2FF5-47DA-91FC-657D09A9DB6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3530-506D-4D96-90AB-1DE0D31FC5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EB30-CB4A-4CC9-9BBF-513BFB4C2B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22: Input/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C7D2-F99D-47A1-8E05-EBE30F8FF0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2EAE-3646-4E33-B20C-6A3009CA34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2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Input/Out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 and output redirection can be comb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 don’t have to be adjacent to file names, and the order in which the redirected files are listed doesn’t mat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 in.dat &gt; 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C69D-2ABD-42C1-886A-9453BED8CCC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read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26F3-3943-47AF-B0F9-E4877137108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three tables contain sampl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s printed in strikeout are consumed by the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ED28-D582-49A9-85CC-C9CBCA5D912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Straight Connector 6"/>
          <p:cNvSpPr/>
          <p:nvPr/>
        </p:nvSpPr>
        <p:spPr>
          <a:xfrm>
            <a:off x="4165560" y="2741760"/>
            <a:ext cx="12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combine conversion specifications, white-space characters, and non-white-space charac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 ,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d, %d", &amp;i, &amp;j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,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5207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6AF-CF4A-40E7-B0D2-54B4D249BA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Straight Connector 12"/>
          <p:cNvSpPr/>
          <p:nvPr/>
        </p:nvSpPr>
        <p:spPr>
          <a:xfrm>
            <a:off x="5372280" y="4646520"/>
            <a:ext cx="10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Straight Connector 10"/>
          <p:cNvSpPr/>
          <p:nvPr/>
        </p:nvSpPr>
        <p:spPr>
          <a:xfrm>
            <a:off x="5384880" y="5537160"/>
            <a:ext cx="291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traight Connector 14"/>
          <p:cNvSpPr/>
          <p:nvPr/>
        </p:nvSpPr>
        <p:spPr>
          <a:xfrm>
            <a:off x="5359320" y="2857680"/>
            <a:ext cx="4381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Straight Connector 10"/>
          <p:cNvSpPr/>
          <p:nvPr/>
        </p:nvSpPr>
        <p:spPr>
          <a:xfrm>
            <a:off x="5370480" y="3746520"/>
            <a:ext cx="291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assignment suppression and specifying a field wid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Inpu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d%d", &amp;i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34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*s%s", str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My•Fair•Lady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Fair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1d%2d%3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&amp;j, &amp;k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scanf("%2d%2s%2d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456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 str, &amp;j)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"34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88620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2B15-26B7-4418-B18C-02E31D99FEA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traight Connector 6"/>
          <p:cNvSpPr/>
          <p:nvPr/>
        </p:nvSpPr>
        <p:spPr>
          <a:xfrm>
            <a:off x="4660920" y="285768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Straight Connector 8"/>
          <p:cNvSpPr/>
          <p:nvPr/>
        </p:nvSpPr>
        <p:spPr>
          <a:xfrm>
            <a:off x="4635360" y="3478320"/>
            <a:ext cx="1051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traight Connector 12"/>
          <p:cNvSpPr/>
          <p:nvPr/>
        </p:nvSpPr>
        <p:spPr>
          <a:xfrm>
            <a:off x="4660920" y="4064040"/>
            <a:ext cx="731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traight Connector 14"/>
          <p:cNvSpPr/>
          <p:nvPr/>
        </p:nvSpPr>
        <p:spPr>
          <a:xfrm>
            <a:off x="4660920" y="5245200"/>
            <a:ext cx="904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Examp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that illustrat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Input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i%i%i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k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•012•0x12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abc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123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[^0123456789]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bc123¤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*d%d%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i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j)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10•20•30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85C-75C6-40A7-8557-62511B66A2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Straight Connector 6"/>
          <p:cNvSpPr/>
          <p:nvPr/>
        </p:nvSpPr>
        <p:spPr>
          <a:xfrm>
            <a:off x="5334120" y="2502000"/>
            <a:ext cx="153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traight Connector 8"/>
          <p:cNvSpPr/>
          <p:nvPr/>
        </p:nvSpPr>
        <p:spPr>
          <a:xfrm>
            <a:off x="5334120" y="3706920"/>
            <a:ext cx="430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traight Connector 8"/>
          <p:cNvSpPr/>
          <p:nvPr/>
        </p:nvSpPr>
        <p:spPr>
          <a:xfrm>
            <a:off x="5335560" y="4952880"/>
            <a:ext cx="4302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Straight Connector 8"/>
          <p:cNvSpPr/>
          <p:nvPr/>
        </p:nvSpPr>
        <p:spPr>
          <a:xfrm>
            <a:off x="5348160" y="556272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ask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ad and st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items, we expect its return value to 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return value is less th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mething went wr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encountered end-of-file before matching the format string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unction was unable to read characters from the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data item was in the wrong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916D-8251-4078-B2E5-354A40234D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two indicators associated with it: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-of-file indicat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indicators are cleared when the stream is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ing end-of-file sets the end-of-file indicator, and a read error sets the error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rror indicator is also set when a write error occurs on an output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82f2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A matching failure doesn’t change either indic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A420-06C8-468E-8B9D-72816406ED5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error or end-of-file indicator is set, it remains in that state until it’s explicitly cleared, perhaps by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lears both the end-of-file and error indic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(fp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nd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dicator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lear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eded often, since some of the other library functions clear one or both indicators as a side eff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0E38-5603-4614-98DA-D94DE12C28B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can be used to test a stream’s indicators to determine why a prior operation on the stream fa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nd-of-file indicator is set for the stream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 if the error indicator is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D248-19C5-4B39-845A-B11539E379C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smaller-than-expected valu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determine the rea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the end of the input file has been rea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, a read error occurred during in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either returns a nonzero value, a matching failure must have occ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turn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how many data items were read before the problem occur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8F7-448C-490C-8A19-310D4BBAD42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problem with output redirection is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ut into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they will appear on the screen even 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redir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4B19-B37A-430A-A2B4-3544A3932B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b82f25"/>
                </a:solidFill>
                <a:latin typeface="Arial"/>
                <a:ea typeface="新細明體"/>
              </a:rPr>
              <a:t>Detecting End-of-File and Error Conditions</a:t>
            </a:r>
            <a:endParaRPr b="0" lang="en-US" sz="31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example that shows h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arches a file for a line that begins with an integ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ind_int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value of the integer that it finds or an error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can’t be 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line begins with an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6E5-2827-48FB-A661-B8A6392D3B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ind_int(const char *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               /* can't open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fscanf(fp, "%d", &amp;n) != 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rror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2;             /* read err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eof(fp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3;             /* integer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*[^\n]");   /* skips rest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3A7-71AB-4A9D-9004-B32E489BEC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racter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can read and write single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work equally well with text streams and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treat characters as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reason is that the input functions indicate an end-of-file (or error) condition by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negative integer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2C73-9922-491E-90E8-96A494C87E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one character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(ch);    /* writes ch to stdout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a character to an arbitrary stre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(ch, fp);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fp);   /* writes ch to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D8FE-BEBF-47C4-BB4F-BD82E37819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is usually a macr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putchar(c) putc((c), stdou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 standard allows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to evaluate the stream argument more than once, whic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permitted to d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gives a faster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write error occurs, all three functions set the error indicator for the stream and retur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they return the character that was writt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F99A-9FC2-45F4-ABD9-2FB57325DC6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a character from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har(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a character from an arbitrary stream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f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 = getc(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three functions treat the character as 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(which is then converted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before it’s returned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they never return a negative value other tha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9C24-C4C8-43D1-9D95-1C45524294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ually implemented as a macro (as well as a function), 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implemented only as a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rmally a macro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getchar() getc(std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mers usually pref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6053-0F04-4EB8-B1C0-3D13CC4AC9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behave the same if a problem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end-of-file, they set the stream’s end-of-file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read error occurs, they set the stream’s error indicator and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differentiate between the two situations, we can call ei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CDB2-BC8B-4BA6-9DAC-4AC9F970C6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most common us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read characters from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for that purp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fp)) != EO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store the return value i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no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st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give the wrong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56D6-EED1-4876-8666-B1E579BE38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“pushes back” a character read from a stream and clears the stream’s end-of-file indic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digits, stopping at the first nondig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isdigit(ch = getc(fp))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(ch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ushes back last character read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990-6706-4BC5-AB2B-51EAD2DF83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upports two kinds of files: text and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ytes 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 characters, allowing humans to examine or edit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ource code for a C program is stored in a tex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inary fil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don’t necessarily represent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roups of bytes might represent other types of data, such as integers and floating-point numb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ecutable C program is stored in a binary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A75B-8CE8-43AB-A2BB-5FA1B623D33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 of characters that can be pushed back by consecutive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es; only the first call is guaranteed to succ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a file-positioning func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causes the pushed-back characters to be lo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ng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haracter it was asked to push 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attempt is made to push back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to push back more characters than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D39-7360-4644-A2E8-7037AE3D41C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makes a copy of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ames of the original file and the new file will be specified on the command line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1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 f1.c f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ssue an error message if there aren’t exactly two file names on the command line or if either file can’t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03D-8E91-4B98-A7BF-F7EC6843856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opy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le modes enabl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opy both text and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u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, the program wouldn’t necessarily be able to copy bin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00CE-321C-4424-BED1-CB13BBC9D10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opy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opies a f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source_fp, *dest_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usage: fcopy source dest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C00A-A671-477A-A242-088A9E860BF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source_fp = fopen(argv[1], "r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dest_fp = fopen(argv[2], "wb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%s\n", argv[2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(source_fp)) != EO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(ch, 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source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dest_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CD57-9F9E-4C2C-892D-7361F7C276F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e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brary functions in the next group are able to read and write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are used mostly with text streams, although it’s legal to use them with binary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99A-69FA-45F9-8F21-E48EF292C2A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a string of character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("Hi, there!");  /* writes to stdout 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it writes the characters in the string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adds a new-line charact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03F-C676-455A-94D4-FBC570D33C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s second argument indicates the stream to which the output should be writ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("Hi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re!",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writes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doesn’t write a new-line character unless one is present in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write error occurs; otherwise, they return a non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5C16-20C3-4D13-8D1D-B3D9FB0B84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ads a line of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(str); /* reads a line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one by one, storing them in the array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until it reads a new-line character (which it discar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ore gener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read from any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saf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ince it limits the number of characters that it will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BAC-6705-4F39-ACE7-ECA1D3C81D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a line into a character array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characters until it reaches the first new-line character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have been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reads the new-line charac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it along with the other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3551-FF92-4D31-B901-3E8AF264899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have two characteristics that binary files don’t poss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are divided into lin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line in a text file normally ends with one or two special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ndows: carriage-return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line-feed character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0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IX and newer versions of Mac OS: line-feed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lder versions of Mac OS: carriage-return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E669-3DD0-4795-83D2-F9E1AFDAEA8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 a null pointer if a read error occurs or they reach the end of the input stream before storing an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both return their first argument, which points to the array in which the input was stor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store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A64C-C57E-4D5D-8BE3-ADA75CECC0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be used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most situ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fe to use only when the string being read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uarante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it into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re’s no guarantee (and there usually isn’t), it’s much safer to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from the standard input stream if pass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its third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82DC-6331-4F75-9F94-4F5D24F0A47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read and write large blocks of data in a single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used primarily with binary streams, although—with care—it’s possible to use them with text strea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AFDF-F03F-4810-9213-25A25143EAB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designed to copy an array from memory to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s in 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ress of arra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ze of each array element (in byte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elements to writ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the entire contents of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D9F2-54A6-4D55-897F-944D421FC5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elements actually writ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will be less than the third argument if a write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EB5-3E55-4FCF-9064-35EBD67E657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ad the elements of an array from a stre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s the contents of a file into the arra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n = fread(a, sizeof(a[0]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a) / sizeof(a[0]), fp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indicates the actual number of elements rea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number should equal the third argument unless the end of the input file was reached or a read error occurr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7836-6184-438C-8333-1AC6F8C3D51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lock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venient for a program that needs to store data in a file before termin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ter, the program (or another program)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ad the data back into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ata doesn’t need to be in arra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rites a structure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&amp;s, sizeof(s), 1, 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888-CB9A-450D-A4BE-D76B7BD758B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very stream has an associat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si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, the file position is set at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“append” mode, the initial file position may be at the beginning or end, depending on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read or write operation is performed, the file position advances automatically, providing sequential acces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04F-D510-4CDD-934B-CC881964AD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sequential access is fine for many applications, some programs need the ability to jump around within a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contains a series of records, we might want to jump directly to a particular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five functions that allow a program to determine the current file position or to chang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E1EF-C03F-404C-BDDF-033060F218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hanges the file position associated with the first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hird argument is one of three mac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ginning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urrent file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d of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argument,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is a (possibly negative)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496-0B92-496C-84D0-FEB11838DF1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xt files may contain a special “end-of-file” mar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the marker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'\x1a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Ctrl-Z), but it is not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ther operating systems, including UNIX, have no special end-of-file chara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a binary file, there are no end-of-line or end-of-file markers; all bytes are treated eq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A8DC-620E-49D3-A5E3-3CAD45FBB5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beginning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to the end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0L, SEEK_E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back 10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-10L, SEEK_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rror occurs (the requested position doesn’t exist, for example)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onzero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770-1194-4A1F-99AF-84242660C7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le-positioning functions are best used with binary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prohibit programs from using them with text streams, but certain restrictions a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text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only to move to the beginning or end of a text stream or to return to a place that was visited previou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binary stream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required to support calls in which the third argumen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DE45-4EF6-4950-B326-5573A2D603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turns the current file position as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value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be saved and later supplied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 = ftell(f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 file_pos, SEEK_SE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AE99-4171-43FE-AD8A-6707441D74D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binary stream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current file position as a byte count, where zero represents the beginning of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text stre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necessarily a byte 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a result, it’s best not to perform arithmetic on values return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BD60-EA6B-42BC-9250-8BA6D8AA17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sets the file 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early equival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L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EK_SE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ifference?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return a value but does clear the error indicator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38DC-C6C4-4254-B470-AE98530E6A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t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limited to files whose positions can be stored in a long inte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working with very large files, C provides two additional functions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an handle large files because they use valu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present file pos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isn’t necessarily an integer; it could be a structure, for in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56F2-B46A-44D0-9F93-9E6A5F3697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position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file_po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ets the file position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the value sto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ails, it stores an error cod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when they succeed and a nonzero value when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46F-974B-4271-8F21-8024722B3C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sition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ave a file position and return to it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os_t file_p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saves current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etpos(fp, &amp;file_p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turns to old posi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FA10-FB2F-44BA-B551-7B27704C56F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odifying a File of Part Rec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tions perform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s a binary file containing part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s the structures into an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n_h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each structur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structures back to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opens the fil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, allowing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2AF5-E521-4E89-AFFE-7EDCA89FCF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clear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odifies a file of part records by setting 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n hand to zero for all record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PARTS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inventory[MAX_PAR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_par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2A8-D578-463A-BAD9-0E2F86E7A42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can be stored in text form or in binary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store the number 32767 in a file would be to write it in text form as the characters 3, 2, 7, 6, and 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3F5-9AA6-45EF-8036-70CA7EF4964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6" descr=""/>
          <p:cNvPicPr/>
          <p:nvPr/>
        </p:nvPicPr>
        <p:blipFill>
          <a:blip r:embed="rId1"/>
          <a:stretch/>
        </p:blipFill>
        <p:spPr>
          <a:xfrm>
            <a:off x="1190520" y="3924360"/>
            <a:ext cx="6696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"inventory.dat", "rb+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 "Can't open inventory fil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parts = fread(inventory, sizeof(struct part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X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parts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[i].on_ha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wind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write(inventory, sizeof(struct part), num_parts, 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75CD-EEF8-4BFD-BEDD-F535D522BB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described in this section can read and write data using a string as though it were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 characters into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characters from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AC5B-76E3-4F5E-93C7-B4508A50CA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ing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ree similar function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lso belong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 are discussed in Chapter 2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24C-05DA-4A4F-A5AF-7EE70E2E218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writes output into a character array (pointed to by its first argument) instead of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writ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9/20/2010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te, "%d/%d/%d", 9, 20, 20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dds a null character at the end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the number of characters stored (not counting the null charac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5484-63F2-4DC8-9AA4-4A150512DB6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used to format data, with the result saved in a string until it’s time to produc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so convenient for converting numbers to character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780-6352-4912-BAD0-6BC788227E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(new in C99) is the same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xcept for an additional second parameter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more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– 1 characters will be written to the string, not counting the terminating null character, which is always written unle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z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(name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3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%s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s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"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Albert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Einstein, 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written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5629-F010-4ABD-99CA-A193A9D7AC1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ut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characters that would have been written (not including the null character) had there been no length restr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n encoding error occu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egative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e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n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d room to write all the requested characters, we can test whether its return value was nonnegative and les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FCAC-30FA-4E88-9237-FD6F3B59C6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a string (pointed to by its first argument) instead of reading from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is a format string identical to that us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533-361F-49F4-9429-36F99544BA9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extracting data from a string that was read by another input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obtain a line of input, then passes the lin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 further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gets(str, sizeof(str), std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a line of inp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(str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extracts two integers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50FB-8FB7-445C-AD64-F18BD09AFE1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dvantage of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we can examine an input line as many times as need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makes it easier to recognize alternate input forms and to recover from erro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reading a date that’s written either in the for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nth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y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ye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/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(sscanf(str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"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-%d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year)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3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Month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: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\n"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th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day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year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no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prope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m\n");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118E-AD66-42A6-880B-DF2F590FEF2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ther option is to store the number in binary, which would take as few as two by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ing numbers in binary can often save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1B82-F6DB-4C67-8FF6-BA704FE30F8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tretch/>
        </p:blipFill>
        <p:spPr>
          <a:xfrm>
            <a:off x="3187800" y="2552760"/>
            <a:ext cx="27032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put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number of data items successfully read and st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it reaches the end of the string (marked by a null character) before finding the firs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0F6-708E-47A4-9E80-9F0AFEF3F7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xt Files versus Bin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that read from a file or write to a file must take into account whether it’s text or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displays the contents of a file on the screen will probably assume it’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ile-copying program, on the other hand, can’t assume that the file to be copied is a text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, binary files containing an end-of-file character won’t be copied comple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n’t say for sure whether a file is text or binary, it’s safer to assume that it’s bi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DB02-4491-44DC-BDA6-FEAAD5A1488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plicity is one of the attractions of input and out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fortunately, redirection is too limited for man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program relies on redirection, it has no control over its files; it doesn’t even know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 doesn’t help if the program needs to read from two files or write to two files at the sa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redirection isn’t enough, we’ll use the file operation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EF02-C8C3-46CE-8340-1D09058F15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ing a file for use as a stream requires 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open(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filenam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mod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argument may include information about the file’s location, such as a drive specifier or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“mode string” that specifies what operations we intend to perform on the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F3BC-7409-4DB3-B186-452CD5595A5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input/output library is the biggest and most important part of the standard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is the primary repository of input/output function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u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g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chapter provides more information about these six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also introduces many new functions, most of which deal with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F370-4BD2-467C-A4C4-F5799959E1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ppears twice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a C99 keyword, indicat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point to strings that don’t share memory lo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conta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ut is otherwise identic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it can usually be ig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2F75-4819-4E03-A358-5BD5BD5AFB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Windows, be careful when the file name in a call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clud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project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ll fail, beca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eated as a character esca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way to avoid the problem is to us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\\project\\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is to use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instead of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\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("c:/project/test1.dat", "r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6C50-9D68-4178-929C-4736CDC203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pen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the program can (and usually will) save in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"in.dat", "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opens in.dat for read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can’t open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39B-73CE-42E4-9B56-20914C66B4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actors that determine which mode string to pas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ch operations are to be performed on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ther the file contains text or bin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F2DC-D7B3-4159-AB1E-67871074CC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text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3430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57FB-CC11-4465-809E-3C003F3758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e strings for binary f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writ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appending (file need not exis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r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, starting at 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truncate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97776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+b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+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n for reading and writing (append if file exis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9DDC-0DFE-4463-8A59-CC551BEE43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there are different mode string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ppe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data is written to a file, it normally overwrites what was previously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ile is opened for appending, data written to the file is added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5366-9224-4D4A-BE3F-C8E96D6820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od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apply when a file is opened for both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reading to writing without first calling a file-positioning function unless the reading operation encountered the end of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switch from writing to reading without either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calling a file-positioning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A5C4-9499-4988-8B3B-D3D34025A3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a program to close a file that it’s no longer u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rgume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file pointer obtained from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the file was closed success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 returns the error co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35B0-190A-4049-A47D-8524F349314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utline of a program that opens a file for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FILE_NAME "example.da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 = fopen(FILE_NAME, "r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fp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Can't open %s\n", FILE_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8C98-50BE-418B-A9B8-30B05C1F2C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input and output redirection, and the difference between text files and binary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designed specifically for use with files, including functions that open and close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perform “formatted”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read and write unformatted data (characters, lines, and bloc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andom access operations on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that write to a string or read from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843-2954-4278-8F06-D2839282BB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losing a Fi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not unusual to se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mbined with the declara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 = fopen(FILE_NAME, "r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 the test again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FILE_NAME, "r"))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44DE-DD41-4F55-8314-3AF3A1EA982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aches a different file to a stream that’s already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ost common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o associate a file with one of the standard stream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uses a program to begin writing to the f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freopen("foo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w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rror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A68-4B6F-4239-84F0-9CE886D779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normal return value is its third argument (a file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open the new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7637-03BD-464A-9FDF-7E156DCA0B2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ttaching a File to an Open Stre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adds a new twist: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ttempts to change the stream’s mode to that specifi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mplementations aren’t required to support this fe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y do, they may place restrictions on which mode changes are permit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991-2F0B-4E33-9482-5B4F08DBEC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several ways to supply file names to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ilding file names into the program doesn’t provide much flexi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mpting the user to enter file names can be awk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the program obtain file names from the command line is often the best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that uses the command line to supply two file names to a program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names.dat dates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C6DC-DE01-4D16-8B97-EA8BAEF8D1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showed how to access command-line arguments by 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 function with two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command-line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array of pointers to the argument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A14E-363F-4630-92FB-99C7C91AD2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Obtaining File Names from the Command Line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0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ogram nam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rough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-1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remaining arguments,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[argc]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3 a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rgv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FA3-8D5A-4663-9D1B-6E534FA391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1639800" y="3809880"/>
            <a:ext cx="57769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Checking Whether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 File Can Be Opened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determines if a file exists and can be opened for r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r will give the program a file name to che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will then print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user enters the wrong number of arguments on the command line, the program will print the messag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s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5E7F-830D-4104-9F77-C664431D2E9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open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hecks whether a file can be opened for read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argc != 2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usage: canopen filenam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fp = fopen(argv[1], "r"))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't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s can be opened\n", 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close(f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9FE-17D1-4ED5-A878-21D84AD317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s often need to create temporary files—files that exist only as long as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wo function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for working with temporary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D87-A811-4C7D-BACE-8AC08CBBDE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trodu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some I/O functions belong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deal with wide characters rather than ordinary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read or write data a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te input/output fun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mila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wchar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e-character input/output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E5CE-6F13-424E-ABE2-4303828F39F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 a temporary file (ope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wb+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ode) that will exist until it’s closed or the program e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file pointer that can be used to access the file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temppt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empptr = tmpfil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create a fi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4AAB-0DE2-4932-978D-FF7394C581E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awbacks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n’t know the name of the file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n’t decide later to make the file perma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alternative is to create a temporary file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useful for ensuring that this file doesn’t have the same name as an existing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868-C3C2-4F58-97B4-1945C97292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enerates a name for a temporary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s argument is a null point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the file name in a static variable and returns a pointer to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file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name = tmpnam(NUL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F42-6D41-413F-AB63-D6CA57930D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pies the file name into a character array provided by the programm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filename[L_tmpnam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(file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creates a temporary file name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is cas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returns a pointer to the first character of this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_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pecifies how long to make a character array that will hold a temporary file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6C2C-5A06-454C-8E64-E5A6D526BB9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emporary Fil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_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cro (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specifies the maximum number of temporary file names that can be generat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ails to generate a file nam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F92-B007-41FE-B386-6105D53021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erring data to or from a disk drive is a relatively slow op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ret to achieving acceptable performance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written to a stream is actually stored in a buffer area in memory; when it’s full (or the stream is closed), the buffer is “flush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streams can be buffered in a similar way: the buffer contains data from the input device; input is read from this buffer instead of the device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8BF6-734F-4541-90BE-07EAA2A49E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uffering can result in enormous gains in efficiency, since reading a byte from a buffer or storing a byte in a buffer is very f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ime to transfer the buffer contents to or from disk, but one large “block move” is much faster than many tiny byte mo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erform buffering automatically when it seems advantage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rare occasions, we may need to use the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99B1-2046-4E2A-B4D7-A4DC2D0304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 program can flush a file’s buffer as often as it wis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the buffer for the file associate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fp);   /* flushes buffer for fp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that flush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utput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(NULL);  /* flushes all buffers */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error occ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7CC-FB1B-49C4-A2A6-2C5010A6C4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ws us to change the way a stream is buffered and to control the size and location of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’s third argument specifies the kind of buffering des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full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L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line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buff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ll buffering is the default for streams that aren’t connected to interactive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C41-B2D7-47E0-B2D0-36CBDEAADA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cond argument (if it’s not a null pointer) is the address of the desired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buffer might have static storage duration, automatic storage duration, or even be allocated dynam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last argument is the number of bytes in the buff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06BC-8D1B-4AAA-A06A-E779D2EB1CC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ream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, the ter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ans any source of input or any destination for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small programs obtain all their input from one stream (the keyboard) and write all their output to another stream (the scree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rger programs may need additional stre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s often represent files stored on various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y could just as easily be associated with devices such as network ports and pr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960C-1887-4B76-BBF2-4CA131F4AC6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hanges the buffe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full buffering,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f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as the buff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buffer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 buffer, _IOFBF,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called 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pened but before any other operations are performe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F06-E795-42BF-9572-FC0261CF869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also legal to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a null pointer as the second argument, which request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reate a buffer with the specified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zero if it’s success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returns a nonzero value i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gument is invalid or the request can’t be hono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740-F834-4E44-83C2-67B8D43E5C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Buffer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older function that assumes default values for the buffering mode and buffe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null pointer, th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(stream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N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it’s equivalent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(void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vbuf(stream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_IOFBF,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UFSI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defin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tbu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nsidered to be obso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EF64-97FC-43CF-8761-89350475CB6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allow a program to perform basic file management oper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nlike most other functions in this se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 with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m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f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zero if they succeed and a nonzero value if they f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D2A1-7A02-4BCC-AF6F-D7FC5F83C8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letes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("foo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eletes the file named "foo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program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mp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create a temporary file, it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delete the file before the program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effect of removing a file that’s currently open is implementation-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B4E-41EF-4CEB-B538-90D8DDB1F7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iscellaneous File Ope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nges the name of a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("foo", "bar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names "foo" to "bar"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handy for renaming a temporary file cre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p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 program should decide to make it perman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file with the new name already exists, the effect is implementation-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fail if asked to rename an open f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037E-E1BA-48B8-874C-58593031B2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ormatted I/O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xt group of library functions use format strings to control reading and wri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numeric form to character form during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related functions are able to convert data from character form to numeric form during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B3B4-7031-4981-BC20-05D9707B17C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rite a variable number of data items to an output stream, using a format string to control the appearance of the outpu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both functions end with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..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ymbol (an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ipsi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hich indicates a variable number of additional argu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fprintf(FILE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strea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printf(const char *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format, 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functions return the number of characters written; a negative return value indicates that an error occu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3559-D64C-4507-B86C-7B00E8B374B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writ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rites to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stdou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fp, "Total: %d\n", tot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writes to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95C3-B99B-413F-8F21-1792339DE7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orks with any out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its most common uses is to write error messages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(stderr,</a:t>
            </a:r>
            <a:r>
              <a:rPr b="0" lang="en-US" sz="7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"Error: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an'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b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ed.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a messag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guarantees that it will appear on the screen even if the user redirect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7663-2AFE-4100-9996-DB05FE6981A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ile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stream is done through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ch has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ertain streams are represented by file pointers with standard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file pointers can be declared as nee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42F-C62E-46E1-BCDF-E3DD49B099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wo other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write formatted output to a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,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re fairly obs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rely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which is declar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arg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y’re discussed along with that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D1E-7D6E-40D8-ACD8-5551A7C2A3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 a format string containing ordinary characters and/or conversion specif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inary characters are printed as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describe how the remaining arguments are to be converted to character form for displ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9F53-7383-4AA7-BAA4-80ED7B3AEFB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, followed by as many as five distinct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DAB-E897-4F1B-8638-D3440BB72D2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6" descr=""/>
          <p:cNvPicPr/>
          <p:nvPr/>
        </p:nvPicPr>
        <p:blipFill>
          <a:blip r:embed="rId1"/>
          <a:stretch/>
        </p:blipFill>
        <p:spPr>
          <a:xfrm>
            <a:off x="2411280" y="2994120"/>
            <a:ext cx="4230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; more than one permitted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a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Mea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ft-justify within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produced by signed conversions always begin 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negative numbers produced by signed conversions 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eded by a spa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 numbers begin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nonzero hexadecimal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Floating-point numbers always have 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Trailing zeros aren’t removed from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nted with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s are padded with leading zeros up to the field widt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ctr" pos="1828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ero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658B-E400-4B70-B656-B422118F04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An item that’s too small to occupy the field will be pad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default, spaces are added to the left of the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tem that’s too large for the field width will still be displayed in its entir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eld width is either an integer or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resent, the field width is obtained from the next arg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0897-9247-4DAC-82AF-68908894CB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The meaning of the precision depends on the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nimum number of digits (leading zeros ar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ed if the number has fewer digit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digits after the decimal po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of significant digi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tabLst>
                <a:tab algn="l" pos="0"/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number of by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ecision is a period (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followed by an integer or the characte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ff7706"/>
              </a:buClr>
              <a:buFont typeface="Times New Roman"/>
              <a:buChar char="–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If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*</a:t>
            </a:r>
            <a:r>
              <a:rPr b="1" lang="en-US" sz="23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 is present, the precision is obtained from the next argu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r" pos="2166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469D-DDAF-4CF0-939E-5A8705BB42E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item to be display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rmally refers 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h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sed to display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F11F-3EF5-479C-B29C-DB47DB2FBD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int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effe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CED8-8B1A-424F-9E22-7BF2AA8E0CB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ell-ell)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ctr" pos="457200"/>
                <a:tab algn="l" pos="1143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7680-D22C-4A2E-AF27-10297C3D3B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one of the characters in the following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d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o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u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base 8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ase 10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or base 16 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xadecimal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m in upper cas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decimal form, put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decimal point in the correct position. If no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1FA9-2FBC-4C4E-A8C8-65C1D7F3AC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three standard stre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le Poin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ea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fault 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andard 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r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reams are ready to use—we don’t declare them, and we don’t open or clo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206360"/>
                <a:tab algn="ctr" pos="360684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035C-EB73-464B-A107-7E506A3CF4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scientific notation. If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is specified, displays six digits after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cimal point.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the let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i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hosen, the exponent is prec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1" lang="en-US" sz="2100" spc="-1" strike="noStrike">
                <a:solidFill>
                  <a:srgbClr val="ff7706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eith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ooses betwee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hexadecimal scientif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ation using the form [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]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hhh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±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hex digit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–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lower case;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splays them i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per case. The choic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so affects the ca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C3D-8C62-4F2F-8FDB-C3F8D439C7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print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isplays an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as an unsigned charact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s pointed to by the argument. Stop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when the number of bytes specified by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cision (if present) is reached or a null character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unter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ts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lue to printable for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4000" spc="-1" strike="noStrike">
                <a:solidFill>
                  <a:srgbClr val="b82f25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ten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produces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2712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2100" spc="-1" strike="noStrike">
                <a:solidFill>
                  <a:srgbClr val="ff7706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EA31-B468-4C6B-9564-48877851F50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99 Changes to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changes to the conversion specification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leng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itional conversion spec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bility to write infinity and 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rt for wid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ly undefined conversion specifications now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9088-DE52-4B27-BCC3-1926359038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flags on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%d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–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•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+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-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0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+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- 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••••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123••••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+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+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 08d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0000123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00001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F346-64C3-4B6B-A3EF-454998D2034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#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lag on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to 123.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1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•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0X7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•••12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%#8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123.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601"/>
              </a:spcBef>
              <a:tabLst>
                <a:tab algn="l" pos="0"/>
                <a:tab algn="ctr" pos="1092240"/>
                <a:tab algn="ctr" pos="3543480"/>
                <a:tab algn="ct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EDED-DDA8-4544-90F2-C5C3A20FC22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the effect of the minimum field width and precision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     Result of Appl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          Conversion to              Conversi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cation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ogus"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"buzzwor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bogu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s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og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••buzz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143000"/>
                <a:tab algn="l" pos="301608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%-6.4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ogu••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uzz•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297-0B47-4C3F-8FB2-E7C2222A1F7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 showing how 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g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displays some numb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 and others 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ult of Applying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%.4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ber                    Conversion to Numb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6.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5.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+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4.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3.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3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2.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2.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123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00000123456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1.235e-0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1096920"/>
                <a:tab algn="l" pos="42973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7D7-D6C2-42DA-9A48-16E7240A851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minimum field width and precision are usually embedded in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ut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 where either number would normally go allows us to specify it as an argu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produce the same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4d"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4d", 6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6.*d"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.*d", 6, 4, 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074-3FE7-4DC2-AD69-312EFA25AA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at it allows us to use a macro to specify the width or preci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IDTH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width or precision can even be computed during program exec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*d"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ge_wid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cols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8B4-FBFA-43BE-94C4-1379BD5310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print the value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p", (void *) 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displays value of pt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ointer is likely to be shown as an octal or hexadecimal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B2BD-F6DE-4676-B2E9-D9A4C90FB4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/O functions discussed in previous chapters obtain input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send outpu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perating systems allow these default meanings to be changed via a mechanism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1FDF-452B-4487-86DE-7A72B137A3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Examples of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printf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is used to find out how many characters have been printed so far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llowing call,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d%n\n", 123, &amp;le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B30D-589F-4361-AB30-45CEE55A3AC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 data items from an input stream, using a format string to indicate the layout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format string, any number of pointers—each pointing to an object—follow as additional arg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items are converted (according to conversion specifications in the format string) and stored in these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DDD2-8041-48C0-8C76-B3B7E86CF2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ways reads from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ads from the stream indicated by its first argu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stdi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(fp, "%d%d", &amp;i, &amp;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reads from fp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quivalent to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the first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976D-4BFC-45C2-A9CF-CF7798C1385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rors that 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to return prematur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no more input characters could be r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input characters didn’t match the format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an input failure can also occur because of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coding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7D1D-E041-4F3D-92E1-68B4C7DB7DF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turn </a:t>
            </a:r>
            <a:r>
              <a:rPr b="1" lang="en-US" sz="2800" spc="-1" strike="noStrike">
                <a:solidFill>
                  <a:srgbClr val="b82f25"/>
                </a:solidFill>
                <a:latin typeface="Times New Roman"/>
                <a:ea typeface="新細明體"/>
              </a:rPr>
              <a:t>the number of data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were read and assigned to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retur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an input failure occurs before any data items can be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ops that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 are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reads a series of integers one by one, stopping at the first sign of trou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scanf("%d", &amp;i) == 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D54-CCDF-4EA1-8C76-3ACD6F59C4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resemble thos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 work differ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represents a pattern tha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ttempts to match as it reads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input doesn’t match the format string, the function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put character that didn’t match is “pushed back” to be read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9472-290C-498C-AFD3-832C871856A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may contain three th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4CD-27E5-4CE9-B25D-56F8BB8D639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s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 resemble those in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rmat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onversion specifications skip white-space characters at the beginning of an input item (the excep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cations never skip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i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hite-space character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9F61-2647-49C8-B89B-FD843EEAC83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ne or more white-space characters in a format string match zero or more white-space characters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n-white-space charact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non-white-space character other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the same character in the input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E199-8240-42A6-96B1-29ABE2742D6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ormat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ormat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ISBN %d-%d-%ld-%d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s that the input will consist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tters ISB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sibly some white-space charac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ng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ts val="2798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teger (possibly preceded by white-space character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67E1-175C-4165-974F-451D026770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tandard Streams and Redire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typical technique for forcing a program to obtain its input from a file instead of from the keyboar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lt;in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put re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utput redir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emo &gt;out.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data written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now go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ut.d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ile instead of appearing on the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235-8C0A-4265-AE29-8596B6118CC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cation consists of the charac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ollow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Signif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ignment suppress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 input item is read but not assigned to an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ems matche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n’t included in the count th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CA8-E7A2-4C1A-BB44-13904474A87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ximum field wid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Limits the number of characters in an input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ite-space characters skipped at the beginning of a conversion don’t co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 mod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optional). Indicates that the object in which the input item will be stored has a type that’s longer or shorter than nor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able on the next slide lists each length modifier and the type indicated when it is combined with a conversion spec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76AD-90D0-4A46-9207-706614E632D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ie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char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l-e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intmax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z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diff_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457200"/>
                <a:tab algn="l" pos="1092240"/>
                <a:tab algn="l" pos="3543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CC19-21C3-4790-B8B4-A1C3C2779D6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 spec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Must be one of the characters in the following 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integer;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The integer is assumed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be in base 10 unless it begins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indicat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tal) or with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0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hexadecimal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n octal integer; the corresponding argument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decimal integer; the corresponding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unsign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73A2-D08C-4976-9F8D-8032EEC4CB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hexadecimal integ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unsigned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floating-point number;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1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have 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floa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, where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maximum fiel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dth, or one character if no field width is specifie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 (or a character object, if no field width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d). Doesn’t add a null character at the en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sequence of non-white-space characters, th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ds a null character at the end. The correspond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rgument is assumed to be a pointer to a 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  <a:ea typeface="新細明體"/>
              </a:rPr>
              <a:t>†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99 on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EFB-E04E-4E89-8061-72DAAF9F8B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                                  Mean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nonempty sequence of characters from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, then adds a null character at the end.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ing argument is assumed to be a pointer to 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racter arr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a pointer value in the form tha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print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ould have written it. The corresponding argument 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d to be a pointer to a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rresponding argument must point to an object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ype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Stores in this object the number of charac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ad so far by this call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No input is consum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d the return value of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affec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68904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es the character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新細明體"/>
              </a:rPr>
              <a:t>%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9FF-1EB4-4450-9869-B74106C203C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data items can always begin with a sig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s convert the item to unsigned form, however, so they’re not normally used to read negative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D8D3-15A7-42F1-8BA5-682A5900E46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 is a more complicated (and more flexible) version of th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onversion specification using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rm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er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any set of charac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the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can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  <a:ea typeface="新細明體"/>
              </a:rPr>
              <a:t>]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equence of characters not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containing only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%[^abc]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tches any string that doesn’t contai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CF8-A2AB-4AF3-86E9-0CFAF1B1F14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y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re closely related to the numeric conversion function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convert strings (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-297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their equivalent numeric values (–29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pecifier, for example, looks for an optio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gn, followed by decimal digits; this is the same form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t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requ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7F77-01BC-4804-AAE2-CCB350C35F9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…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scanf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Conversion Specific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rrespond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version specifiers and numeric convers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fi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meric Conver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8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0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6 as th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</a:t>
            </a:r>
            <a:r>
              <a:rPr b="0" lang="en-US" sz="2400" spc="-1" strike="noStrike">
                <a:solidFill>
                  <a:srgbClr val="b82f25"/>
                </a:solidFill>
                <a:latin typeface="Courier New"/>
                <a:ea typeface="新細明體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ctr" pos="160020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1E96-4936-4C3B-AE10-B16658F0542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8T15:25:10Z</dcterms:modified>
  <cp:revision>1371</cp:revision>
  <dc:subject/>
  <dc:title>No Slide Title</dc:title>
</cp:coreProperties>
</file>